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BF834C-F759-443F-8216-33295AABA96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61F2E3-CCF4-4F6E-AFF7-079C6FAA9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5DDD371-73DE-47B6-9F11-37A80B96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D794E4-E33C-4F66-8EC0-F3A097CF48F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2ACEF36-3F1B-4D9A-BDEC-271A2611F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7CB4FD-AB8A-403A-AC1D-547C4E36A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6EB491B-A51D-4E0E-A2B0-25AB3429D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2549A70-6E71-4789-837D-760D2B40D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712B127-3474-4948-8686-34975896F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779A67-B99B-4395-9A66-3D083A785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B89030-D750-4432-A79A-3E4F0682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4D63F1-6192-414F-84D6-72383FB2F2B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F977F-BA88-40D8-9982-D74E774F7B3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579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0574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police unit responds to a call in a part of town plagued by violence. When you arrive, you find the scene is empty except for a young woman lying on the sidewalk. After sizing up the scene and approaching the young woman, you notice that she has been shot and is bleeding profusely.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2: Injuries to the Chest, Abdomen and Genital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nsion Pneumothorax:</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istr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or absent breath sou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chea shifting away from side of inju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stable blood pressure (low)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est Injuries:</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breathing, including shortness of breath and pain when breathing (especially deep breath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at the site of the inju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 deform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or bluish sk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ghing up bloo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ruding neck vei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op in blood press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cking Chest Wound:</a:t>
            </a:r>
            <a:br>
              <a:rPr sz="3800"/>
            </a:br>
            <a:r>
              <a:rPr b="0" lang="en-US" sz="3800" spc="-1" strike="noStrike">
                <a:solidFill>
                  <a:srgbClr val="000000"/>
                </a:solidFill>
                <a:latin typeface="Calibri"/>
              </a:rPr>
              <a:t>Care</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with an occlusive dressing, taping it in place on all sides except for one side that should remain loo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folded cloth or, as a last resort, a gloved hand if occlusive dressing not availa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 if available, and take steps to minimize 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patient sit or lie in a comfortable position if no spinal injury is suspec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led Object in the Chest:</a:t>
            </a:r>
            <a:br>
              <a:rPr sz="3800"/>
            </a:br>
            <a:r>
              <a:rPr b="0" lang="en-US" sz="3800" spc="-1" strike="noStrike">
                <a:solidFill>
                  <a:srgbClr val="000000"/>
                </a:solidFill>
                <a:latin typeface="Calibri"/>
              </a:rPr>
              <a:t>Care</a:t>
            </a:r>
            <a:endParaRPr b="0" lang="en-US" sz="3800" spc="-1" strike="noStrike">
              <a:solidFill>
                <a:srgbClr val="000000"/>
              </a:solidFill>
              <a:latin typeface="Calibri"/>
            </a:endParaRPr>
          </a:p>
        </p:txBody>
      </p:sp>
      <p:sp>
        <p:nvSpPr>
          <p:cNvPr id="234" name=""/>
          <p:cNvSpPr txBox="1"/>
          <p:nvPr/>
        </p:nvSpPr>
        <p:spPr>
          <a:xfrm>
            <a:off x="457200" y="1523880"/>
            <a:ext cx="82296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ever </a:t>
            </a:r>
            <a:r>
              <a:rPr b="0" lang="en-US" sz="2800" spc="-1" strike="noStrike">
                <a:solidFill>
                  <a:srgbClr val="000000"/>
                </a:solidFill>
                <a:latin typeface="Calibri"/>
              </a:rPr>
              <a:t>remove the object unless it interferes with chest compress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ze the object to prevent further damag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clothing to expose the woun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bleeding by applying direct pressure to the edges of the wound; avoid direct pressure on the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terile, bulky dressing to help hold the object in place, carefully packing the dressing around the objec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ure the sterile bulky dressing in place with gauze, a cravat or tap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a nearby athletic field where an adult softball league is practicing. One of the players was hit in the chest by a line drive</a:t>
            </a:r>
            <a:r>
              <a:rPr b="0" lang="en-US" sz="2800" spc="-1" strike="noStrike">
                <a:solidFill>
                  <a:srgbClr val="000000"/>
                </a:solidFill>
                <a:latin typeface="Calibri"/>
              </a:rPr>
              <a:t> </a:t>
            </a:r>
            <a:r>
              <a:rPr b="0" i="1" lang="en-US" sz="2800" spc="-1" strike="noStrike">
                <a:solidFill>
                  <a:srgbClr val="000000"/>
                </a:solidFill>
                <a:latin typeface="Calibri"/>
              </a:rPr>
              <a:t>with a softball. The impact knocked the player to the ground. The player is alert but complaining of severe pain on the left side of her chest. You notice her leaning toward the left side and breathing shallowly.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Abdominal Injuries</a:t>
            </a:r>
            <a:endParaRPr b="0" lang="en-US" sz="38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inal injuries are either open or clos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injuries include lacerations, abrasions, punctures, evisceration or disembowel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d injuries include contusions and </a:t>
            </a:r>
            <a:r>
              <a:rPr b="0" lang="en-CA" sz="2800" spc="-1" strike="noStrike">
                <a:solidFill>
                  <a:srgbClr val="000000"/>
                </a:solidFill>
                <a:latin typeface="Calibri"/>
              </a:rPr>
              <a:t>gastrointestinal bleeding.</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bdominal Injuries:</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4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pa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erness or swollen feeling in the abdominal are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uis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bleed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and vomi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ashen, cool or moist sk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s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ruding orga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losed Abdominal Injury:</a:t>
            </a:r>
            <a:br>
              <a:rPr sz="3800"/>
            </a:br>
            <a:r>
              <a:rPr b="0" lang="en-US" sz="3800" spc="-1" strike="noStrike">
                <a:solidFill>
                  <a:srgbClr val="000000"/>
                </a:solidFill>
                <a:latin typeface="Calibri"/>
              </a:rPr>
              <a:t>Care</a:t>
            </a:r>
            <a:endParaRPr b="0" lang="en-US" sz="3800" spc="-1" strike="noStrike">
              <a:solidFill>
                <a:srgbClr val="000000"/>
              </a:solidFill>
              <a:latin typeface="Calibri"/>
            </a:endParaRPr>
          </a:p>
        </p:txBody>
      </p:sp>
      <p:sp>
        <p:nvSpPr>
          <p:cNvPr id="242"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fully position the patient on the back.</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applying direct pressur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d his or her knees slightly.</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 if available.</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steps to minimize shock.</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28240"/>
            <a:ext cx="80010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n Abdominal Injury:</a:t>
            </a:r>
            <a:br>
              <a:rPr sz="3800"/>
            </a:br>
            <a:r>
              <a:rPr b="0" lang="en-US" sz="3800" spc="-1" strike="noStrike">
                <a:solidFill>
                  <a:srgbClr val="000000"/>
                </a:solidFill>
                <a:latin typeface="Calibri"/>
              </a:rPr>
              <a:t>Care</a:t>
            </a:r>
            <a:endParaRPr b="0" lang="en-US" sz="3800" spc="-1" strike="noStrike">
              <a:solidFill>
                <a:srgbClr val="000000"/>
              </a:solidFill>
              <a:latin typeface="Calibri"/>
            </a:endParaRPr>
          </a:p>
        </p:txBody>
      </p:sp>
      <p:sp>
        <p:nvSpPr>
          <p:cNvPr id="244" name=""/>
          <p:cNvSpPr txBox="1"/>
          <p:nvPr/>
        </p:nvSpPr>
        <p:spPr>
          <a:xfrm>
            <a:off x="457200" y="16765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fully position the patient on the ba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direct pressure and pushing the organs back inside the patient’s bod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clothing from around the woun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moist (warm tap water can be used), sterile or clean dressings loosely over the wou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274320"/>
            <a:ext cx="8534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n Abdominal Injury:</a:t>
            </a:r>
            <a:br>
              <a:rPr sz="3800"/>
            </a:br>
            <a:r>
              <a:rPr b="0" lang="en-US" sz="3800" spc="-1" strike="noStrike">
                <a:solidFill>
                  <a:srgbClr val="000000"/>
                </a:solidFill>
                <a:latin typeface="Calibri"/>
              </a:rPr>
              <a:t>Care</a:t>
            </a:r>
            <a:r>
              <a:rPr b="0" lang="en-US" sz="4000" spc="-1" strike="noStrike">
                <a:solidFill>
                  <a:srgbClr val="000000"/>
                </a:solidFill>
                <a:latin typeface="Calibri"/>
              </a:rPr>
              <a:t>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46"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the dressings loosely with plastic wrap, if availab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the dressings lightly with a folded towel to maintain warmt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 from getting chilled or overheat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 if availab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ze any object impaled in the abdomen.</a:t>
            </a:r>
            <a:endParaRPr b="0" lang="en-US" sz="2800" spc="-1" strike="noStrike">
              <a:solidFill>
                <a:srgbClr val="000000"/>
              </a:solidFill>
              <a:latin typeface="Calibri"/>
            </a:endParaRPr>
          </a:p>
          <a:p>
            <a:pPr marL="343080" indent="-343080">
              <a:lnSpc>
                <a:spcPct val="80000"/>
              </a:lnSpc>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est Injurie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chest wou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 penetrates the chest w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ctured ribs break through the ski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sed chest wou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ly due to a blunt object</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240"/>
            <a:ext cx="82296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ital Injuries:</a:t>
            </a:r>
            <a:br>
              <a:rPr sz="3800"/>
            </a:br>
            <a:r>
              <a:rPr b="0" lang="en-US" sz="3800" spc="-1" strike="noStrike">
                <a:solidFill>
                  <a:srgbClr val="000000"/>
                </a:solidFill>
                <a:latin typeface="Calibri"/>
              </a:rPr>
              <a:t>Care</a:t>
            </a:r>
            <a:endParaRPr b="0" lang="en-US" sz="3800" spc="-1" strike="noStrike">
              <a:solidFill>
                <a:srgbClr val="000000"/>
              </a:solidFill>
              <a:latin typeface="Calibri"/>
            </a:endParaRPr>
          </a:p>
        </p:txBody>
      </p:sp>
      <p:sp>
        <p:nvSpPr>
          <p:cNvPr id="248" name=""/>
          <p:cNvSpPr txBox="1"/>
          <p:nvPr/>
        </p:nvSpPr>
        <p:spPr>
          <a:xfrm>
            <a:off x="457200" y="1294920"/>
            <a:ext cx="8229600" cy="5410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le (to the peni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ap penis in soft, sterile saline-moistened dres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n open wound, apply sterile dressing and direct pressur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cold compr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mal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bleeding with saline-moistened dressing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diaper-like dressing for the woun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ice packs over dress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s you begin your assessment, you notice that the young woman has multiple gunshot wounds to her chest and abdome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Chest Injurie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nt trau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umatic asphyx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 fra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il ch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neumothora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thora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sion pneumothorax</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unt Trauma:</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16" name=""/>
          <p:cNvSpPr txBox="1"/>
          <p:nvPr/>
        </p:nvSpPr>
        <p:spPr>
          <a:xfrm>
            <a:off x="45720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shortness of brea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p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possibly irregular pu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aumatic Asphyxia: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18" name=""/>
          <p:cNvSpPr txBox="1"/>
          <p:nvPr/>
        </p:nvSpPr>
        <p:spPr>
          <a:xfrm>
            <a:off x="457200" y="144792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ended neck vei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ano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conjunctival hemorrh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ck ey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techiae on the head and ne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unded, “moon-like” facial appeara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eeding from the nose or e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ghing up or vomiting bloo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consciousness, seizures or blind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roken Ribs:</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20"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ning toward side of frac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 or arm pressing over injured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llow brea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lail Chest:</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as for fractured rib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severe, difficulty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s and symptoms of sh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neumothorax:</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while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at the site (rib frac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breath sou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signs of hemorrhage or sh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mothorax:</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ness of brea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breath sou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signs of sho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or unstable blood pressure (if mass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7T17:48:39Z</dcterms:created>
  <dc:creator>Mom</dc:creator>
  <dc:description/>
  <dc:language>en-US</dc:language>
  <cp:lastModifiedBy>belrod</cp:lastModifiedBy>
  <dcterms:modified xsi:type="dcterms:W3CDTF">2011-04-29T15:14:11Z</dcterms:modified>
  <cp:revision>33</cp:revision>
  <dc:subject/>
  <dc:title>You Are the Emergency Medical Responder</dc:title>
</cp:coreProperties>
</file>