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F1CFB0-F79D-401E-8C0A-F1683FBD3DD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2774E94-D668-4A17-9D3E-B0B4D49A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68B9F9-B3DE-4AC5-A228-2985F98D6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67CC664-3F22-434A-956E-64C9CEEA86A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BF09ED-4FE3-406C-8485-0D31A669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E58D253-DC37-4C0B-8CBB-EF431271E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62123BA-0656-4DB8-ADFA-17461B018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56B616F-8D93-4A27-AA15-9B233608A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A970004-4473-4435-A4B3-F0EBB33B9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7BA42E3-94C0-41ED-B08C-452940E1E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BF54BE9-612F-4281-B76E-9CE23CB40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EAD4B6-162B-4FDA-9C55-F11F48809AE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C235-EB1D-4ACB-AA9A-4070F5D185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8080"/>
            <a:ext cx="8229600" cy="579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533160" y="2133360"/>
            <a:ext cx="8381880" cy="47242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r police unit responds to a call for a medical emergency involving a man who has collapsed in front of a school building. When you and your partner arrive, you see that the man is bleeding from the mouth and face. Vomit and blood are on the ground around him. “His face hit the ground when he fell,” a bystander says. The victim does not appear to be breathing.</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22860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ea typeface="Osaka"/>
              </a:rPr>
              <a:t>Lesson 3: The Well-Being of the Emergency Medical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Health of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28"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well-be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fitness, nutrition and sleep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of disease transmis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including protection from the su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tal well-be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ess management techniqu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lance of work and life deman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 alcohol or drug use or misus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ressful Situations</a:t>
            </a:r>
            <a:endParaRPr b="0" lang="en-US" sz="3800" spc="-1" strike="noStrike">
              <a:solidFill>
                <a:srgbClr val="000000"/>
              </a:solidFill>
              <a:latin typeface="Calibri"/>
            </a:endParaRPr>
          </a:p>
        </p:txBody>
      </p:sp>
      <p:sp>
        <p:nvSpPr>
          <p:cNvPr id="212" name=""/>
          <p:cNvSpPr txBox="1"/>
          <p:nvPr/>
        </p:nvSpPr>
        <p:spPr>
          <a:xfrm>
            <a:off x="457200" y="129492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ngerous situ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ysical and psychological dema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itically injured or ill peopl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ath and dying pati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powering sights, smells and soun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patient situ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ry or upset patients, family and bystander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ceptions to Resuscitation</a:t>
            </a:r>
            <a:r>
              <a:rPr b="0" lang="en-US" sz="3800" spc="-1" strike="noStrike">
                <a:solidFill>
                  <a:srgbClr val="000000"/>
                </a:solidFill>
                <a:latin typeface="Calibri"/>
              </a:rPr>
              <a:t>	</a:t>
            </a:r>
            <a:endParaRPr b="0" lang="en-US" sz="3800" spc="-1" strike="noStrike">
              <a:solidFill>
                <a:srgbClr val="000000"/>
              </a:solidFill>
              <a:latin typeface="Calibri"/>
            </a:endParaRPr>
          </a:p>
        </p:txBody>
      </p:sp>
      <p:sp>
        <p:nvSpPr>
          <p:cNvPr id="214"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id Do Not Resuscitate (DNR) order present at the scen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 with obvious signs of deat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ssue deca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or morti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vious mortal woun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endent liv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tuation endangering to EMR’s lif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ages of Grief</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i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g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rgai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pression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pt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Warning Signs of Stress</a:t>
            </a:r>
            <a:endParaRPr b="0" lang="en-US" sz="3800" spc="-1" strike="noStrike">
              <a:solidFill>
                <a:srgbClr val="000000"/>
              </a:solidFill>
              <a:latin typeface="Calibri"/>
            </a:endParaRPr>
          </a:p>
        </p:txBody>
      </p:sp>
      <p:sp>
        <p:nvSpPr>
          <p:cNvPr id="218" name=""/>
          <p:cNvSpPr txBox="1"/>
          <p:nvPr/>
        </p:nvSpPr>
        <p:spPr>
          <a:xfrm>
            <a:off x="457200" y="1219320"/>
            <a:ext cx="8229600" cy="54864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eep probl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itabil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dness, anxiety or guil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cisiveness or lack of concentr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ss of appetite or interest in sexual activity or wor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olation or hopelessnes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cohol or drug misuse/abus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ritical Incident Stress Reactions </a:t>
            </a:r>
            <a:endParaRPr b="0" lang="en-US" sz="3800" spc="-1" strike="noStrike">
              <a:solidFill>
                <a:srgbClr val="000000"/>
              </a:solidFill>
              <a:latin typeface="Calibri"/>
            </a:endParaRPr>
          </a:p>
        </p:txBody>
      </p:sp>
      <p:sp>
        <p:nvSpPr>
          <p:cNvPr id="220" name=""/>
          <p:cNvSpPr txBox="1"/>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fusion, shortened attention span or poor concentr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nial, guilt, depression or 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in interactions with oth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ed or decreased eat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haracteristic or excessive humor or sile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ther unusual behavi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2" name=""/>
          <p:cNvSpPr txBox="1"/>
          <p:nvPr/>
        </p:nvSpPr>
        <p:spPr>
          <a:xfrm>
            <a:off x="304560" y="1294920"/>
            <a:ext cx="8381880" cy="52578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e the first to arrive on the scene of a multi-vehicle collision involving a tractor trailer and several cars. The driver of the tractor trailer is severely injured with a portion of his hand partially severed. A person in one of the cars, a young teenager, has been thrown through the windshield and is lying in a contorted position on the side of the road. Another person is trapped in the car and unable to move her le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eps to Relieve Stress </a:t>
            </a:r>
            <a:br>
              <a:rPr sz="3800"/>
            </a:br>
            <a:r>
              <a:rPr b="0" lang="en-US" sz="3800" spc="-1" strike="noStrike">
                <a:solidFill>
                  <a:srgbClr val="000000"/>
                </a:solidFill>
                <a:latin typeface="Calibri"/>
              </a:rPr>
              <a:t>After an Incident</a:t>
            </a:r>
            <a:endParaRPr b="0" lang="en-US" sz="3800" spc="-1" strike="noStrike">
              <a:solidFill>
                <a:srgbClr val="000000"/>
              </a:solidFill>
              <a:latin typeface="Calibri"/>
            </a:endParaRPr>
          </a:p>
        </p:txBody>
      </p:sp>
      <p:sp>
        <p:nvSpPr>
          <p:cNvPr id="224" name=""/>
          <p:cNvSpPr txBox="1"/>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relaxation techniqu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lthy mea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caffeinated beverag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oidance of alcohol and dru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t review</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olvement in physical activ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briefing/defus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Emergency Medical Responder</a:t>
            </a:r>
            <a:endParaRPr b="0" lang="en-US" sz="3800" spc="-1" strike="noStrike">
              <a:solidFill>
                <a:srgbClr val="000000"/>
              </a:solidFill>
              <a:latin typeface="Calibri"/>
            </a:endParaRPr>
          </a:p>
        </p:txBody>
      </p:sp>
      <p:sp>
        <p:nvSpPr>
          <p:cNvPr id="226" name=""/>
          <p:cNvSpPr txBox="1"/>
          <p:nvPr/>
        </p:nvSpPr>
        <p:spPr>
          <a:xfrm>
            <a:off x="457200" y="1752480"/>
            <a:ext cx="8229600" cy="51055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fter emergency medical services (EMS) personnel assumed the care of your patient, you note that, in addition to the blood and vomit on the ground there is some blood on your disposable gloves and the mask of your BVM.</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6T16:35:46Z</dcterms:created>
  <dc:creator>Mom</dc:creator>
  <dc:description/>
  <dc:language>en-US</dc:language>
  <cp:lastModifiedBy>belrod</cp:lastModifiedBy>
  <dcterms:modified xsi:type="dcterms:W3CDTF">2011-04-29T13:58:35Z</dcterms:modified>
  <cp:revision>36</cp:revision>
  <dc:subject/>
  <dc:title>You Are the Emergency Medical Responder</dc:title>
</cp:coreProperties>
</file>