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CF434-8911-4BC0-95C7-EFDE8B1B18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6EF7A-C9A0-4081-A89D-324A7203F4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2BBAE2-C539-4A19-B226-E80212CF772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F29E44-F688-438B-A5D1-2616E81F7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CD2153-D1F5-457C-8F9E-74D817461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B659E6-744D-453F-ABEF-DE7849640C3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91FB20-C0B8-493C-ABD8-1B6CA2108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AF686D-C935-4C0E-89EB-DD04C7F5E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6E2F0D-40E4-41F6-AD5E-E1CE7C0FA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501050-D842-4C62-B0D5-ECEED849F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30289C-C824-4F56-A496-58FBA4F11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856D33-67EB-41DF-B303-1A4E9066F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961080-CD77-4979-8F35-5A89A54ED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6FA923-0B87-4E9E-AF0A-511672327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228240" y="6248520"/>
            <a:ext cx="5638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800" spc="-1" strike="noStrike">
                <a:solidFill>
                  <a:srgbClr val="cb0a2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b0a21"/>
                </a:solidFill>
                <a:latin typeface="Times New Roman"/>
              </a:rPr>
              <a:t>Emergency Medical Respon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873A4-35F9-4DFD-86A1-81AA1DF06C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8"/>
          <p:cNvSpPr/>
          <p:nvPr/>
        </p:nvSpPr>
        <p:spPr>
          <a:xfrm>
            <a:off x="0" y="152280"/>
            <a:ext cx="9140760" cy="19080"/>
          </a:xfrm>
          <a:prstGeom prst="rect">
            <a:avLst/>
          </a:prstGeom>
          <a:solidFill>
            <a:srgbClr val="56565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9" descr="ARCH2lr"/>
          <p:cNvPicPr/>
          <p:nvPr/>
        </p:nvPicPr>
        <p:blipFill>
          <a:blip r:embed="rId2"/>
          <a:stretch/>
        </p:blipFill>
        <p:spPr>
          <a:xfrm>
            <a:off x="7543800" y="6202440"/>
            <a:ext cx="1473120" cy="655560"/>
          </a:xfrm>
          <a:prstGeom prst="rect">
            <a:avLst/>
          </a:prstGeom>
          <a:ln w="0">
            <a:noFill/>
          </a:ln>
        </p:spPr>
      </p:pic>
      <p:sp>
        <p:nvSpPr>
          <p:cNvPr id="4" name="Rectangle 10"/>
          <p:cNvSpPr/>
          <p:nvPr/>
        </p:nvSpPr>
        <p:spPr>
          <a:xfrm>
            <a:off x="3240" y="6172200"/>
            <a:ext cx="9140760" cy="19080"/>
          </a:xfrm>
          <a:prstGeom prst="rect">
            <a:avLst/>
          </a:prstGeom>
          <a:solidFill>
            <a:srgbClr val="cb0a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8"/>
          <p:cNvSpPr/>
          <p:nvPr/>
        </p:nvSpPr>
        <p:spPr>
          <a:xfrm>
            <a:off x="3240" y="6248520"/>
            <a:ext cx="9140760" cy="19080"/>
          </a:xfrm>
          <a:prstGeom prst="rect">
            <a:avLst/>
          </a:prstGeom>
          <a:solidFill>
            <a:srgbClr val="565656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8"/>
          <p:cNvSpPr/>
          <p:nvPr/>
        </p:nvSpPr>
        <p:spPr>
          <a:xfrm>
            <a:off x="0" y="152280"/>
            <a:ext cx="9140760" cy="19080"/>
          </a:xfrm>
          <a:prstGeom prst="rect">
            <a:avLst/>
          </a:prstGeom>
          <a:solidFill>
            <a:srgbClr val="56565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9" descr="ARCH2lr"/>
          <p:cNvPicPr/>
          <p:nvPr/>
        </p:nvPicPr>
        <p:blipFill>
          <a:blip r:embed="rId2"/>
          <a:stretch/>
        </p:blipFill>
        <p:spPr>
          <a:xfrm>
            <a:off x="7543800" y="6202440"/>
            <a:ext cx="1473120" cy="65556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10"/>
          <p:cNvSpPr/>
          <p:nvPr/>
        </p:nvSpPr>
        <p:spPr>
          <a:xfrm>
            <a:off x="3240" y="6172200"/>
            <a:ext cx="9140760" cy="19080"/>
          </a:xfrm>
          <a:prstGeom prst="rect">
            <a:avLst/>
          </a:prstGeom>
          <a:solidFill>
            <a:srgbClr val="cb0a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8"/>
          <p:cNvSpPr/>
          <p:nvPr/>
        </p:nvSpPr>
        <p:spPr>
          <a:xfrm>
            <a:off x="3240" y="6248520"/>
            <a:ext cx="9140760" cy="19080"/>
          </a:xfrm>
          <a:prstGeom prst="rect">
            <a:avLst/>
          </a:prstGeom>
          <a:solidFill>
            <a:srgbClr val="565656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4"/>
          <p:cNvSpPr/>
          <p:nvPr/>
        </p:nvSpPr>
        <p:spPr>
          <a:xfrm>
            <a:off x="22860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b0a21"/>
                </a:solidFill>
                <a:latin typeface="Arial"/>
              </a:rPr>
              <a:t>Emergency Medical 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8"/>
          <p:cNvSpPr/>
          <p:nvPr/>
        </p:nvSpPr>
        <p:spPr>
          <a:xfrm>
            <a:off x="0" y="152280"/>
            <a:ext cx="9140760" cy="19080"/>
          </a:xfrm>
          <a:prstGeom prst="rect">
            <a:avLst/>
          </a:prstGeom>
          <a:solidFill>
            <a:srgbClr val="56565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ARCH2lr"/>
          <p:cNvPicPr/>
          <p:nvPr/>
        </p:nvPicPr>
        <p:blipFill>
          <a:blip r:embed="rId2"/>
          <a:stretch/>
        </p:blipFill>
        <p:spPr>
          <a:xfrm>
            <a:off x="7543800" y="6202440"/>
            <a:ext cx="1473120" cy="65556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10"/>
          <p:cNvSpPr/>
          <p:nvPr/>
        </p:nvSpPr>
        <p:spPr>
          <a:xfrm>
            <a:off x="3240" y="6172200"/>
            <a:ext cx="9140760" cy="19080"/>
          </a:xfrm>
          <a:prstGeom prst="rect">
            <a:avLst/>
          </a:prstGeom>
          <a:solidFill>
            <a:srgbClr val="cb0a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8"/>
          <p:cNvSpPr/>
          <p:nvPr/>
        </p:nvSpPr>
        <p:spPr>
          <a:xfrm>
            <a:off x="3240" y="6248520"/>
            <a:ext cx="9140760" cy="19080"/>
          </a:xfrm>
          <a:prstGeom prst="rect">
            <a:avLst/>
          </a:prstGeom>
          <a:solidFill>
            <a:srgbClr val="565656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4"/>
          <p:cNvSpPr/>
          <p:nvPr/>
        </p:nvSpPr>
        <p:spPr>
          <a:xfrm>
            <a:off x="22860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b0a21"/>
                </a:solidFill>
                <a:latin typeface="Arial"/>
              </a:rPr>
              <a:t>Emergency Medical 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Calibri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8"/>
          <p:cNvSpPr/>
          <p:nvPr/>
        </p:nvSpPr>
        <p:spPr>
          <a:xfrm>
            <a:off x="0" y="152280"/>
            <a:ext cx="9140760" cy="19080"/>
          </a:xfrm>
          <a:prstGeom prst="rect">
            <a:avLst/>
          </a:prstGeom>
          <a:solidFill>
            <a:srgbClr val="56565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9" descr="ARCH2lr"/>
          <p:cNvPicPr/>
          <p:nvPr/>
        </p:nvPicPr>
        <p:blipFill>
          <a:blip r:embed="rId2"/>
          <a:stretch/>
        </p:blipFill>
        <p:spPr>
          <a:xfrm>
            <a:off x="7543800" y="6202440"/>
            <a:ext cx="1473120" cy="65556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10"/>
          <p:cNvSpPr/>
          <p:nvPr/>
        </p:nvSpPr>
        <p:spPr>
          <a:xfrm>
            <a:off x="3240" y="6172200"/>
            <a:ext cx="9140760" cy="19080"/>
          </a:xfrm>
          <a:prstGeom prst="rect">
            <a:avLst/>
          </a:prstGeom>
          <a:solidFill>
            <a:srgbClr val="cb0a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8"/>
          <p:cNvSpPr/>
          <p:nvPr/>
        </p:nvSpPr>
        <p:spPr>
          <a:xfrm>
            <a:off x="3240" y="6248520"/>
            <a:ext cx="9140760" cy="19080"/>
          </a:xfrm>
          <a:prstGeom prst="rect">
            <a:avLst/>
          </a:prstGeom>
          <a:solidFill>
            <a:srgbClr val="565656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4"/>
          <p:cNvSpPr/>
          <p:nvPr/>
        </p:nvSpPr>
        <p:spPr>
          <a:xfrm>
            <a:off x="22860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b0a21"/>
                </a:solidFill>
                <a:latin typeface="Arial"/>
              </a:rPr>
              <a:t>Emergency Medical 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8"/>
          <p:cNvSpPr/>
          <p:nvPr/>
        </p:nvSpPr>
        <p:spPr>
          <a:xfrm>
            <a:off x="0" y="152280"/>
            <a:ext cx="9140760" cy="19080"/>
          </a:xfrm>
          <a:prstGeom prst="rect">
            <a:avLst/>
          </a:prstGeom>
          <a:solidFill>
            <a:srgbClr val="56565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9" descr="ARCH2lr"/>
          <p:cNvPicPr/>
          <p:nvPr/>
        </p:nvPicPr>
        <p:blipFill>
          <a:blip r:embed="rId2"/>
          <a:stretch/>
        </p:blipFill>
        <p:spPr>
          <a:xfrm>
            <a:off x="7543800" y="6202440"/>
            <a:ext cx="1473120" cy="655560"/>
          </a:xfrm>
          <a:prstGeom prst="rect">
            <a:avLst/>
          </a:prstGeom>
          <a:ln w="0">
            <a:noFill/>
          </a:ln>
        </p:spPr>
      </p:pic>
      <p:sp>
        <p:nvSpPr>
          <p:cNvPr id="169" name="Rectangle 10"/>
          <p:cNvSpPr/>
          <p:nvPr/>
        </p:nvSpPr>
        <p:spPr>
          <a:xfrm>
            <a:off x="3240" y="6172200"/>
            <a:ext cx="9140760" cy="19080"/>
          </a:xfrm>
          <a:prstGeom prst="rect">
            <a:avLst/>
          </a:prstGeom>
          <a:solidFill>
            <a:srgbClr val="cb0a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8"/>
          <p:cNvSpPr/>
          <p:nvPr/>
        </p:nvSpPr>
        <p:spPr>
          <a:xfrm>
            <a:off x="3240" y="6248520"/>
            <a:ext cx="9140760" cy="19080"/>
          </a:xfrm>
          <a:prstGeom prst="rect">
            <a:avLst/>
          </a:prstGeom>
          <a:solidFill>
            <a:srgbClr val="565656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4"/>
          <p:cNvSpPr/>
          <p:nvPr/>
        </p:nvSpPr>
        <p:spPr>
          <a:xfrm>
            <a:off x="22860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b0a21"/>
                </a:solidFill>
                <a:latin typeface="Arial"/>
              </a:rPr>
              <a:t>Emergency Medical 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</a:rPr>
              <a:t>You Are the 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Calibri"/>
              </a:rPr>
              <a:t>Emergency Medical Responder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You are an EMR dispatched to the scene of an explosion. On arrival you are staged with other emergency vehicles one block away. You are told that police suspect that a building was targeted by an extremist group and it is uncertain if there were injuries from the blas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TextBox 4"/>
          <p:cNvSpPr/>
          <p:nvPr/>
        </p:nvSpPr>
        <p:spPr>
          <a:xfrm>
            <a:off x="762120" y="152280"/>
            <a:ext cx="769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Lesson 46: Disasters, Terrorism a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Weapons of Mass Destr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</a:rPr>
              <a:t>Weapons of Mass Destruction </a:t>
            </a:r>
            <a:br>
              <a:rPr sz="3800"/>
            </a:b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Known by the acronym CBRN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emic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ologic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diological/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clea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xplosiv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</a:rPr>
              <a:t>Chemical Agents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rve ag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lister ag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lood ag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ulmonary ag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apacitating agent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</a:rPr>
              <a:t>Biological Weapons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ass A weap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ass B weap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ass C weapon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</a:rPr>
              <a:t>Radiological/Nuclear Agents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amage due to the following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685800" indent="-34920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ir bla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685800" indent="-34920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e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685800" indent="-34920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onizing radi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685800" indent="-34920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round shoc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685800" indent="-34920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ary radi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</a:rPr>
              <a:t>Explosives and 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Calibri"/>
              </a:rPr>
              <a:t>Incendiary Weapons</a:t>
            </a:r>
            <a:br>
              <a:rPr sz="3800"/>
            </a:b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gh-order explosives: supersonic over-pressurization shock wav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ow-order explosives: subsonic explos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</a:rPr>
              <a:t>Response to CBRNE/WMD Incident</a:t>
            </a:r>
            <a:br>
              <a:rPr sz="3800"/>
            </a:b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epar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dical direc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sonal prepar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quip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ransportation and communic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quipment and supp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rival on the sce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cene safety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viding ca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</a:rPr>
              <a:t>Nerve Agent Poisoning</a:t>
            </a:r>
            <a:br>
              <a:rPr sz="3800"/>
            </a:b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itial effects dependent on dose and rou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halation via g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bsorption through ski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gestion from liquids or foo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ose and amount of exposure leads to varying effec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</a:rPr>
              <a:t>Care for Nerve Agent Poisoning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entil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tidot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ropi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alidoxime chlori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contamin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tinued monitoring and transport (if ingested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rve agent auto-injector kit (for self- or peer-administration of nerve agent antido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</a:rPr>
              <a:t>Activity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You and several other EMRs are providing care to patients at the scene involving exposure to a nerve agent. You observe a fellow EMR begin to sweat excessively and cough. He starts complaining of headache and nausea. You also notice a runny nose, watery eyes and pinpoint pupils. You suspect that he is exhibiting signs of nerve agent poisoning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</a:rPr>
              <a:t>You Are the Emergency Medical Responder </a:t>
            </a:r>
            <a:br>
              <a:rPr sz="3800"/>
            </a:b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There is some question about the cause of the explosion but police strongly suspect that is was a terrorist attack using a WMD, most likely a high-order explosive. While in the staging area you observe a large trash bag near a dumpster in close proximity to staged apparatu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</a:rPr>
              <a:t>Terrorism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unlawful use of force and violence against persons or property to intimidate or coerce government, the civilian population or any segment thereof, in furtherance of political or social objectiv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</a:rPr>
              <a:t>Pandemic Flu</a:t>
            </a:r>
            <a:br>
              <a:rPr sz="3800"/>
            </a:b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53352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ree pillar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3240" indent="-285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eparedness and communic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3240" indent="-285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rveillance and detec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3240" indent="-285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ponse and contain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has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3240" indent="-285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arly detec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3240" indent="-285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reatment with antiviral medic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3240" indent="-285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fection control measur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3240" indent="-285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accin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</a:rPr>
              <a:t>Personal Preparedness</a:t>
            </a:r>
            <a:br>
              <a:rPr sz="3800"/>
            </a:b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et a k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ke a pl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e inform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</a:rPr>
              <a:t>Preparation for 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Calibri"/>
              </a:rPr>
              <a:t>Disasters and Terrorism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38088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ederal Emergency Management Agency (FEMA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ional Response Framework (NRF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ional Disaster Medical System (NDM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</a:rPr>
              <a:t>National Incident Management System 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rehensive national framework for managing incid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utline of structures for response activities for command and managemen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vision of consistent, nationwide response at all leve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</a:rPr>
              <a:t>Areas of NIMS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380880" y="12952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ident command systems (IC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ultiagency coordination system (MAC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nified command, training, identification and management of resour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utual aid and assist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tuational awaren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Qualifications and certific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llection, tracking and reporting of incident inform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risis action planning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erci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</a:rPr>
              <a:t>Emergency Support Functions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1523520"/>
            <a:ext cx="8229600" cy="490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3680" indent="-46368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ransport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63680" indent="-46368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munic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63680" indent="-46368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ublic works and engineer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63680" indent="-46368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refigh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63680" indent="-46368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mergency manag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63680" indent="-46368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ss care, emergency assistance, housing and human servi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63680" indent="-46368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ogistics management and resource suppor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</a:rPr>
              <a:t>Emergency Support Functions (cont’d)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alibri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ublic health and medical servi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alibri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arch and rescu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alibri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il and hazardous materials respon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alibri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griculture and natural resour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alibri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nerg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alibri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ublic safety and secur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alibri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ong-term community recove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alibri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rnal aff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</a:rPr>
              <a:t>Three Main Categories of Disasters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6840" y="1143000"/>
            <a:ext cx="5334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uman-caused (terrorist attacks, HAZMAT incidents and MCI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iological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2" name="Picture 5" descr="Picture"/>
          <p:cNvPicPr/>
          <p:nvPr/>
        </p:nvPicPr>
        <p:blipFill>
          <a:blip r:embed="rId1"/>
          <a:srcRect l="7500" t="20165" r="20002" b="17819"/>
          <a:stretch/>
        </p:blipFill>
        <p:spPr>
          <a:xfrm>
            <a:off x="5867280" y="2666880"/>
            <a:ext cx="2851200" cy="182880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7" descr="Picture"/>
          <p:cNvPicPr/>
          <p:nvPr/>
        </p:nvPicPr>
        <p:blipFill>
          <a:blip r:embed="rId2"/>
          <a:srcRect l="0" t="0" r="0" b="13849"/>
          <a:stretch/>
        </p:blipFill>
        <p:spPr>
          <a:xfrm>
            <a:off x="2666880" y="4191120"/>
            <a:ext cx="2779920" cy="190476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6" descr=""/>
          <p:cNvPicPr/>
          <p:nvPr/>
        </p:nvPicPr>
        <p:blipFill>
          <a:blip r:embed="rId3"/>
          <a:stretch/>
        </p:blipFill>
        <p:spPr>
          <a:xfrm>
            <a:off x="2514600" y="914400"/>
            <a:ext cx="274968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</a:rPr>
              <a:t>The EMR’s Role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3716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adership if first responder on the sce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f you are not the first responder on the scene—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ssist the lead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ssume other rol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460440">
              <a:spcBef>
                <a:spcPts val="700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riage pati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460440">
              <a:spcBef>
                <a:spcPts val="700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vide medical ca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460440">
              <a:spcBef>
                <a:spcPts val="700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vide patient reception at staging facilit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460440">
              <a:spcBef>
                <a:spcPts val="700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epare patients for evacu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0T20:35:39Z</dcterms:created>
  <dc:creator>Mom</dc:creator>
  <dc:description/>
  <dc:language>en-US</dc:language>
  <cp:lastModifiedBy>belrod</cp:lastModifiedBy>
  <dcterms:modified xsi:type="dcterms:W3CDTF">2011-04-29T15:36:26Z</dcterms:modified>
  <cp:revision>47</cp:revision>
  <dc:subject/>
  <dc:title>You Are the Emergency Medical Responder</dc:title>
</cp:coreProperties>
</file>