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800327-023E-4757-9529-D963FB911C2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64B5112-207D-48CD-9514-3227FC433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B366C46-9E9A-4E66-9162-7898B2868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F0C107F-1AAF-48EC-A5EF-27F2F9830AB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FF8F2CE-8619-4B8E-BC23-4460A7CFF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6594E12-9BCA-4233-B581-38182FC71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530C603-6436-4987-81A9-6CCF98BF7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31B13485-451A-40A2-9926-AB1F2DDC4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1A871E4-119C-430E-9406-93B3B807E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F4262E5-5E68-4A1B-A3E9-FA3C9C8F4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EF4AAB8-6EC6-4584-A64D-1025FAB61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044FBC2-062A-4331-8938-06B4EC46AB9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577E-91E3-4232-AF86-8692FCA26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Chap17-32/17-32%20jpegs%20for%20powerpt/20100806_arc_emr2_1616.jpg" TargetMode="External"/><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380880" y="213372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You are an EMR approaching the scene of a two-car collision at a busy intersection. It is rush hour and traffic is heavy. One of the involved cars is situated on the median strip, and the other is off the road on the shoulder, just past the intersection. There are multiple occupants in each vehicle.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42: EMS Support and Operations</a:t>
            </a:r>
            <a:endParaRPr b="0" lang="en-US" sz="2000" spc="-1" strike="noStrike">
              <a:solidFill>
                <a:srgbClr val="000000"/>
              </a:solidFill>
              <a:latin typeface="Arial"/>
            </a:endParaRPr>
          </a:p>
        </p:txBody>
      </p:sp>
      <p:sp>
        <p:nvSpPr>
          <p:cNvPr id="210"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afety and Patient Care in the Ambulance</a:t>
            </a:r>
            <a:endParaRPr b="0" lang="en-US" sz="3800" spc="-1" strike="noStrike">
              <a:solidFill>
                <a:srgbClr val="000000"/>
              </a:solidFill>
              <a:latin typeface="Calibri"/>
            </a:endParaRPr>
          </a:p>
        </p:txBody>
      </p:sp>
      <p:sp>
        <p:nvSpPr>
          <p:cNvPr id="229"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personnel seated and secure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 properly secure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hree of the five essential body parts (</a:t>
            </a:r>
            <a:r>
              <a:rPr b="0" lang="en-US" sz="2800" spc="-1" strike="noStrike">
                <a:solidFill>
                  <a:srgbClr val="000000"/>
                </a:solidFill>
                <a:latin typeface="Calibri"/>
              </a:rPr>
              <a:t>hands, feet and backside</a:t>
            </a:r>
            <a:r>
              <a:rPr b="0" lang="en-US" sz="2800" spc="-1" strike="noStrike">
                <a:solidFill>
                  <a:srgbClr val="000000"/>
                </a:solidFill>
                <a:latin typeface="Calibri"/>
              </a:rPr>
              <a:t>)</a:t>
            </a:r>
            <a:r>
              <a:rPr b="0" lang="en-US" sz="2800" spc="-1" strike="noStrike">
                <a:solidFill>
                  <a:srgbClr val="000000"/>
                </a:solidFill>
                <a:latin typeface="Calibri"/>
              </a:rPr>
              <a:t> “hugging” the ambulance at all times during patient car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moveable equipment secur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Jump Kit</a:t>
            </a:r>
            <a:endParaRPr b="0" lang="en-US" sz="3800" spc="-1" strike="noStrike">
              <a:solidFill>
                <a:srgbClr val="000000"/>
              </a:solidFill>
              <a:latin typeface="Calibri"/>
            </a:endParaRPr>
          </a:p>
        </p:txBody>
      </p:sp>
      <p:sp>
        <p:nvSpPr>
          <p:cNvPr id="231" name=""/>
          <p:cNvSpPr txBox="1"/>
          <p:nvPr/>
        </p:nvSpPr>
        <p:spPr>
          <a:xfrm>
            <a:off x="457200" y="1142640"/>
            <a:ext cx="4648320" cy="2590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l airway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tion equip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tificial ventilation devic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ic wound suppl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tems, such as—</a:t>
            </a:r>
            <a:endParaRPr b="0" lang="en-US" sz="2800" spc="-1" strike="noStrike">
              <a:solidFill>
                <a:srgbClr val="000000"/>
              </a:solidFill>
              <a:latin typeface="Calibri"/>
            </a:endParaRPr>
          </a:p>
        </p:txBody>
      </p:sp>
      <p:pic>
        <p:nvPicPr>
          <p:cNvPr id="232" name="Picture 5" descr="Picture">
            <a:hlinkClick r:id="rId1"/>
          </p:cNvPr>
          <p:cNvPicPr/>
          <p:nvPr/>
        </p:nvPicPr>
        <p:blipFill>
          <a:blip r:embed="rId2"/>
          <a:srcRect l="11250" t="0" r="7500" b="4223"/>
          <a:stretch/>
        </p:blipFill>
        <p:spPr>
          <a:xfrm>
            <a:off x="5029200" y="1143000"/>
            <a:ext cx="3809880" cy="2989440"/>
          </a:xfrm>
          <a:prstGeom prst="rect">
            <a:avLst/>
          </a:prstGeom>
          <a:ln w="0">
            <a:noFill/>
          </a:ln>
        </p:spPr>
      </p:pic>
      <p:sp>
        <p:nvSpPr>
          <p:cNvPr id="233" name="Content Placeholder 2"/>
          <p:cNvSpPr/>
          <p:nvPr/>
        </p:nvSpPr>
        <p:spPr>
          <a:xfrm>
            <a:off x="457200" y="3657600"/>
            <a:ext cx="7467480" cy="2133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PE and hand sanitize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cissors, blood pressure cuff, stethoscope and flashligh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aps, notepad and 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Additional fire rescue, police and EMS units arrive. You see that one of the occupants of the vehicle that is on the shoulder of the road apparently was not wearing a seat belt, was ejected from the vehicle and is not moving. The driver of the car on the median strip is conscious, but because of traffic you cannot get to that vehicle.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Operational Safety and Security</a:t>
            </a:r>
            <a:endParaRPr b="0" lang="en-US" sz="3800" spc="-1" strike="noStrike">
              <a:solidFill>
                <a:srgbClr val="000000"/>
              </a:solidFill>
              <a:latin typeface="Calibri"/>
            </a:endParaRPr>
          </a:p>
        </p:txBody>
      </p:sp>
      <p:sp>
        <p:nvSpPr>
          <p:cNvPr id="237" name=""/>
          <p:cNvSpPr txBox="1"/>
          <p:nvPr/>
        </p:nvSpPr>
        <p:spPr>
          <a:xfrm>
            <a:off x="457200" y="1294920"/>
            <a:ext cx="822960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gin each shift with an in-person briefing or review of written notes about any issue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ver leave an ambulance or rescue vehicle running or unattended with the key in the igni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 all vehicles, in and out of servi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ck all vehicle u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oles of the EMR</a:t>
            </a:r>
            <a:endParaRPr b="0" lang="en-US" sz="38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ditional EM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s within the 9-1-1 system</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traditional EM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 same training as traditional EM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s in less traditional settings</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Nine Phases of EMS Response</a:t>
            </a:r>
            <a:endParaRPr b="0" lang="en-US" sz="3800" spc="-1" strike="noStrike">
              <a:solidFill>
                <a:srgbClr val="000000"/>
              </a:solidFill>
              <a:latin typeface="Calibri"/>
            </a:endParaRPr>
          </a:p>
        </p:txBody>
      </p:sp>
      <p:sp>
        <p:nvSpPr>
          <p:cNvPr id="214" name=""/>
          <p:cNvSpPr txBox="1"/>
          <p:nvPr/>
        </p:nvSpPr>
        <p:spPr>
          <a:xfrm>
            <a:off x="457200" y="1295280"/>
            <a:ext cx="8229600" cy="55627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aration for an emergency call</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atch</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route to the scene</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rival at the scene and patient contact</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ferring the patient to the ambulance</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route to the receiving facilit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rival at the receiving facilit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 medical facility</a:t>
            </a:r>
            <a:endParaRPr b="0" lang="en-US" sz="2800" spc="-1" strike="noStrike">
              <a:solidFill>
                <a:srgbClr val="000000"/>
              </a:solidFill>
              <a:latin typeface="Calibri"/>
            </a:endParaRPr>
          </a:p>
          <a:p>
            <a:pPr marL="609480" indent="-6094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for next emergency call</a:t>
            </a:r>
            <a:endParaRPr b="0" lang="en-US" sz="2800" spc="-1" strike="noStrike">
              <a:solidFill>
                <a:srgbClr val="000000"/>
              </a:solidFill>
              <a:latin typeface="Calibri"/>
            </a:endParaRPr>
          </a:p>
          <a:p>
            <a:pPr marL="609480" indent="-60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eneral Criteria for Air Medical Transport </a:t>
            </a:r>
            <a:endParaRPr b="0" lang="en-US" sz="3800" spc="-1" strike="noStrike">
              <a:solidFill>
                <a:srgbClr val="000000"/>
              </a:solidFill>
              <a:latin typeface="Calibri"/>
            </a:endParaRPr>
          </a:p>
        </p:txBody>
      </p:sp>
      <p:sp>
        <p:nvSpPr>
          <p:cNvPr id="216" name=""/>
          <p:cNvSpPr txBox="1"/>
          <p:nvPr/>
        </p:nvSpPr>
        <p:spPr>
          <a:xfrm>
            <a:off x="457200" y="1600200"/>
            <a:ext cx="868680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hicle rollover with an unrestrained passenger(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orcycle accident with driver thrown at a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peed &gt;20 mph</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ple injured or ill peopl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destrian struck with vehicle travelling at &gt;10 mph</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l from a height &gt;15 fee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tical stroke and cardiac patients if ground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ransport &gt;45 minut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tical trauma patient if ground transport &gt;30 minut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ir Medical Transport</a:t>
            </a:r>
            <a:endParaRPr b="0" lang="en-US" sz="3800" spc="-1" strike="noStrike">
              <a:solidFill>
                <a:srgbClr val="000000"/>
              </a:solidFill>
              <a:latin typeface="Calibri"/>
            </a:endParaRPr>
          </a:p>
        </p:txBody>
      </p:sp>
      <p:sp>
        <p:nvSpPr>
          <p:cNvPr id="218" name=""/>
          <p:cNvSpPr txBox="1"/>
          <p:nvPr/>
        </p:nvSpPr>
        <p:spPr>
          <a:xfrm>
            <a:off x="380880" y="1295280"/>
            <a:ext cx="82296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torcrafts: used for areas not accessible to any other type of rescue craf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xed-wing crafts: used for transport over long distanc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ation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a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ace and loa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Landing Zone Considerations</a:t>
            </a:r>
            <a:endParaRPr b="0" lang="en-US" sz="3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minimum area of 10,000 square feet (100 feet by 100 fee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 firm land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rea clear of any obstacles, such as trees or utility pol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rea clear of any type of vehicular traffic or pedestria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rea that is well lit that can easily be seen by the pilo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mergency Vehicle Safety</a:t>
            </a:r>
            <a:endParaRPr b="0" lang="en-US" sz="38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hicle preparednes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ipment prepared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of lights and sire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onding with due regar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igh-Risk Situations</a:t>
            </a:r>
            <a:endParaRPr b="0" lang="en-US" sz="3800" spc="-1" strike="noStrike">
              <a:solidFill>
                <a:srgbClr val="000000"/>
              </a:solidFill>
              <a:latin typeface="Calibri"/>
            </a:endParaRPr>
          </a:p>
        </p:txBody>
      </p:sp>
      <p:sp>
        <p:nvSpPr>
          <p:cNvPr id="224" name=""/>
          <p:cNvSpPr txBox="1"/>
          <p:nvPr/>
        </p:nvSpPr>
        <p:spPr>
          <a:xfrm>
            <a:off x="457200" y="144792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sections and highway acc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ed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iving distract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ement weath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gressive driv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paved roadway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onding alone/first on the scen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2"/>
          <p:cNvSpPr>
            <a:spLocks noGrp="1"/>
          </p:cNvSpPr>
          <p:nvPr>
            <p:ph/>
          </p:nvPr>
        </p:nvSpPr>
        <p:spPr>
          <a:xfrm>
            <a:off x="5105520" y="13716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igu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wned electrical lin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king fuel or flu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oke or fir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oken gla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pped or ejected patients</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27" name=""/>
          <p:cNvSpPr txBox="1"/>
          <p:nvPr/>
        </p:nvSpPr>
        <p:spPr>
          <a:xfrm>
            <a:off x="457200" y="914040"/>
            <a:ext cx="8229600" cy="579132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You are the first to arrive at the scene involving a tree that has fallen onto a house after a violent thunderstorm. The house is located in a rural section of the town. The wind is blowing hard and rain continues to fall, somewhat heavy at times. The tree has hit the second story of the house, damaging the roof and several windows. Tree branches, window shards and pieces of the roof litter the ground. The utility pole in front of the house is leaning toward the house. The family members, who were on the second floor when the tree hit, are outside sitting on the grass. They are dazed and have numerous cuts and lacerations that are oozing blood. Fire and utility crews have been notified but have yet to arriv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4:07:43Z</dcterms:created>
  <dc:creator>Mom</dc:creator>
  <dc:description/>
  <dc:language>en-US</dc:language>
  <cp:lastModifiedBy>belrod</cp:lastModifiedBy>
  <dcterms:modified xsi:type="dcterms:W3CDTF">2011-04-29T15:33:18Z</dcterms:modified>
  <cp:revision>43</cp:revision>
  <dc:subject/>
  <dc:title>You Are the Emergency Medical Responder</dc:title>
</cp:coreProperties>
</file>