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ADC7C-3A08-4217-AB14-067B36C940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4FE4E6-17B6-4123-8EA1-E1BC1561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A74A6BA-A9D3-42E8-9C84-47622154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7DECB2E-D49D-4C3D-A0C8-C11E2D47760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1E9F1C-F473-41FE-B4F5-1A8BD3F5E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69F0B47-80C7-470A-9906-1F75C1B707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686A04-A954-4391-B43B-42C3FC0A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325C5C0-3EC5-42A0-8FE9-569A4A612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CA22FC8-BF6C-4838-94C8-F527BD053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9D43F4D-8D63-4DDD-B5B4-74EDB98E6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3C7AFC4-D7F0-47DC-BB10-B0000CDE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E888384-5A6F-4ADA-8AD3-964B20F1C47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14BA-278E-4687-9CD6-4AEF0D5A533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520"/>
            <a:ext cx="8229600" cy="884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1904760"/>
            <a:ext cx="8229600" cy="422100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ambulance unit is the first to arrive on an isolated road where an 18-year-old male driver lost control of a motor vehicle and collided with a tree. In the crash, the driver’s legs were broken, and he is pinned in the wreckage. You find the driver conscious, restless and in obvious pain. After a couple of minutes, the patient’s condition has changed. He begins to look ill. You notice he responds only to loud verbal stimuli, is breathing fast and looks pale. His skin is cold and moist and his pulse is rapid and weak. </a:t>
            </a:r>
            <a:endParaRPr b="0" lang="en-US" sz="2800" spc="-1" strike="noStrike">
              <a:solidFill>
                <a:srgbClr val="000000"/>
              </a:solidFill>
              <a:latin typeface="Calibri"/>
            </a:endParaRPr>
          </a:p>
          <a:p>
            <a:pPr>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9: Sh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fter extrication teams arrive, they finally free the driver from the vehicle and he is removed from the car. You notice that the patient looks worse. He now responds only to painful physical stimuli. His breathing has become very irregular. You know that the hospital is 20 minutes away.</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a:t>
            </a:r>
            <a:endParaRPr b="0" lang="en-US" sz="3800" spc="-1" strike="noStrike">
              <a:solidFill>
                <a:srgbClr val="000000"/>
              </a:solidFill>
              <a:latin typeface="Calibri"/>
            </a:endParaRPr>
          </a:p>
        </p:txBody>
      </p:sp>
      <p:sp>
        <p:nvSpPr>
          <p:cNvPr id="212" name=""/>
          <p:cNvSpPr txBox="1"/>
          <p:nvPr/>
        </p:nvSpPr>
        <p:spPr>
          <a:xfrm>
            <a:off x="456840" y="1371240"/>
            <a:ext cx="85345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supply of oxygenated blood to the vital orga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conditions necessary to maintain adequate blood fl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ing hea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act blood vessels with ability to constrict or dil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equate amount of circulating bl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jor Types of Shock</a:t>
            </a:r>
            <a:endParaRPr b="0" lang="en-US" sz="3800" spc="-1" strike="noStrike">
              <a:solidFill>
                <a:srgbClr val="000000"/>
              </a:solidFill>
              <a:latin typeface="Calibri"/>
            </a:endParaRPr>
          </a:p>
        </p:txBody>
      </p:sp>
      <p:sp>
        <p:nvSpPr>
          <p:cNvPr id="214"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volem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rrhagic is the most common typ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tructiv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ribu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rogenic/vasogen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phylac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t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ogen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Types of Shock</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glycem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ogen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 Early Signs and Symptoms</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ehension and anxie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ghtly lower body tempera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ght increase in pulse r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or slightly decreased blood press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ashen and cool sk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 Later Signs and Symptoms </a:t>
            </a:r>
            <a:endParaRPr b="0" lang="en-US" sz="3800" spc="-1" strike="noStrike">
              <a:solidFill>
                <a:srgbClr val="000000"/>
              </a:solidFill>
              <a:latin typeface="Calibri"/>
            </a:endParaRPr>
          </a:p>
        </p:txBody>
      </p:sp>
      <p:sp>
        <p:nvSpPr>
          <p:cNvPr id="220" name=""/>
          <p:cNvSpPr txBox="1"/>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less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speak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breath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blood pressure (diastolic blood pressure may reach zero)</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yet weak or irregular pul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cold and clammy sk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body temperat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lated pupils that are slow to respond to ligh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2" name=""/>
          <p:cNvSpPr txBox="1"/>
          <p:nvPr/>
        </p:nvSpPr>
        <p:spPr>
          <a:xfrm>
            <a:off x="457200" y="1600200"/>
            <a:ext cx="822960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providing care to a patient who has fallen off of a 6-foot ladder into a pile of construction debris. He has numerous lacerations on his body with two large open wounds on his thighs that are bleeding profusely. The patient is pale but alert and anxious. His respiratory rate is 28 breaths per minute and his pulse rate is 104 beats per minute. His blood pressure is within his usual range. </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 Care</a:t>
            </a:r>
            <a:endParaRPr b="0" lang="en-US" sz="3800" spc="-1" strike="noStrike">
              <a:solidFill>
                <a:srgbClr val="000000"/>
              </a:solidFill>
              <a:latin typeface="Calibri"/>
            </a:endParaRPr>
          </a:p>
        </p:txBody>
      </p:sp>
      <p:sp>
        <p:nvSpPr>
          <p:cNvPr id="224" name=""/>
          <p:cNvSpPr txBox="1"/>
          <p:nvPr/>
        </p:nvSpPr>
        <p:spPr>
          <a:xfrm>
            <a:off x="457200" y="1294920"/>
            <a:ext cx="8229600" cy="5257800"/>
          </a:xfrm>
          <a:prstGeom prst="rect">
            <a:avLst/>
          </a:prstGeom>
          <a:noFill/>
          <a:ln w="0">
            <a:noFill/>
          </a:ln>
        </p:spPr>
        <p:txBody>
          <a:bodyPr lIns="90000" rIns="90000" tIns="46800" bIns="46800"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an open airway </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emergency oxygen and ventilatory support</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bleeding</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ve patient flat in a face-up position</a:t>
            </a:r>
            <a:endParaRPr b="0" lang="en-US" sz="2800" spc="-1" strike="noStrike">
              <a:solidFill>
                <a:srgbClr val="000000"/>
              </a:solidFill>
              <a:latin typeface="Calibri"/>
            </a:endParaRPr>
          </a:p>
          <a:p>
            <a:pPr marL="514440" indent="-5144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hock: Care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26" name=""/>
          <p:cNvSpPr txBox="1"/>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obilize any suspected broken bones or dislocated or damaged joint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normal body temperatur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sure the pati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give any food or drin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for specific injuries or condi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 as soon as possib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6T17:04:52Z</dcterms:created>
  <dc:creator>Mom</dc:creator>
  <dc:description/>
  <dc:language>en-US</dc:language>
  <cp:lastModifiedBy>belrod</cp:lastModifiedBy>
  <dcterms:modified xsi:type="dcterms:W3CDTF">2011-04-29T15:11:51Z</dcterms:modified>
  <cp:revision>26</cp:revision>
  <dc:subject/>
  <dc:title>You Are the Emergency Medical Responder</dc:title>
</cp:coreProperties>
</file>