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E5BA2F-D6C9-4A85-AFAF-74BCA0D4EED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46C233B-7E23-4184-9588-606F68106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0E35C64-4E59-48ED-8DED-12E977D1A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8F4B951-75FE-48B7-B4ED-7FC885FA652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F90C3FB-B2CE-4538-9C57-013ABD9A7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D74ACA5-E830-49AB-B922-7A75B4693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1D15D12-5172-4315-B93C-0F0B35B11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EF952BF2-54BE-48D4-BC03-E59C4CF4F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7FDB14A-5C81-4F5C-91E3-C6A22C3AC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9CB1B1D-1A98-47EA-8986-F1DDC787C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B505936-7648-4139-B077-53E11721A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706605E-F1A4-46A0-A498-30ACA72D77B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E3D09-D5D0-494D-9867-1194688A5C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9" descr="ARCH2lr"/>
          <p:cNvPicPr/>
          <p:nvPr/>
        </p:nvPicPr>
        <p:blipFill>
          <a:blip r:embed="rId2"/>
          <a:stretch/>
        </p:blipFill>
        <p:spPr>
          <a:xfrm>
            <a:off x="7543800" y="6202440"/>
            <a:ext cx="1473120" cy="655560"/>
          </a:xfrm>
          <a:prstGeom prst="rect">
            <a:avLst/>
          </a:prstGeom>
          <a:ln w="0">
            <a:noFill/>
          </a:ln>
        </p:spPr>
      </p:pic>
      <p:sp>
        <p:nvSpPr>
          <p:cNvPr id="126"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s://extranet.medimedia.com/sites/Staywell-ARC/filestore/StayWell_Internal_ImagesToReview/EMR_PPT_image_lowres/Chap1-16/06.chk.sene_lowres.jpg" TargetMode="External"/><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09" name=""/>
          <p:cNvSpPr txBox="1"/>
          <p:nvPr/>
        </p:nvSpPr>
        <p:spPr>
          <a:xfrm>
            <a:off x="456840" y="1904760"/>
            <a:ext cx="8458200" cy="4724280"/>
          </a:xfrm>
          <a:prstGeom prst="rect">
            <a:avLst/>
          </a:prstGeom>
          <a:noFill/>
          <a:ln w="0">
            <a:noFill/>
          </a:ln>
        </p:spPr>
        <p:txBody>
          <a:bodyPr lIns="90000" rIns="90000" tIns="46800" bIns="46800" anchor="t">
            <a:normAutofit/>
          </a:bodyPr>
          <a:p>
            <a:pPr marL="55440" indent="-55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You are summoned to a neighbor's home after the 43-year-old mother and her two children from next door were apparently overcome by carbon monoxide from using a gas oven. The power went out earlier and has not been restored. The family members were found by a concerned neighbor. When you arrive, you see the mother and one of the children who are conscious and complaining of nausea and severe headaches. You also see a 6-year-old boy who appears to be unresponsive and not breathing.</a:t>
            </a:r>
            <a:endParaRPr b="0" lang="en-US" sz="2800" spc="-1" strike="noStrike">
              <a:solidFill>
                <a:srgbClr val="000000"/>
              </a:solidFill>
              <a:latin typeface="Calibri"/>
            </a:endParaRPr>
          </a:p>
        </p:txBody>
      </p:sp>
      <p:sp>
        <p:nvSpPr>
          <p:cNvPr id="210" name="TextBox 4"/>
          <p:cNvSpPr/>
          <p:nvPr/>
        </p:nvSpPr>
        <p:spPr>
          <a:xfrm>
            <a:off x="762120" y="22860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Osaka"/>
              </a:rPr>
              <a:t>Lesson 8: Scene Size-U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cene Safety</a:t>
            </a:r>
            <a:endParaRPr b="0" lang="en-US" sz="3800" spc="-1" strike="noStrike">
              <a:solidFill>
                <a:srgbClr val="000000"/>
              </a:solidFill>
              <a:latin typeface="Calibri"/>
            </a:endParaRPr>
          </a:p>
        </p:txBody>
      </p:sp>
      <p:sp>
        <p:nvSpPr>
          <p:cNvPr id="212" name=""/>
          <p:cNvSpPr txBox="1"/>
          <p:nvPr/>
        </p:nvSpPr>
        <p:spPr>
          <a:xfrm>
            <a:off x="457200" y="1600200"/>
            <a:ext cx="50292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the sen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and feel for hazar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sten for unusual soun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ell to detect any unusual or unexpected odo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erve the scene for dangers.</a:t>
            </a:r>
            <a:endParaRPr b="0" lang="en-US" sz="2800" spc="-1" strike="noStrike">
              <a:solidFill>
                <a:srgbClr val="000000"/>
              </a:solidFill>
              <a:latin typeface="Calibri"/>
            </a:endParaRPr>
          </a:p>
        </p:txBody>
      </p:sp>
      <p:pic>
        <p:nvPicPr>
          <p:cNvPr id="213" name="Picture 5" descr="Picture">
            <a:hlinkClick r:id="rId1"/>
          </p:cNvPr>
          <p:cNvPicPr/>
          <p:nvPr/>
        </p:nvPicPr>
        <p:blipFill>
          <a:blip r:embed="rId2"/>
          <a:srcRect l="6975" t="0" r="0" b="32499"/>
          <a:stretch/>
        </p:blipFill>
        <p:spPr>
          <a:xfrm>
            <a:off x="5257800" y="1066680"/>
            <a:ext cx="3691080" cy="373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uidelines for Personal Safety</a:t>
            </a:r>
            <a:endParaRPr b="0" lang="en-US" sz="3800" spc="-1" strike="noStrike">
              <a:solidFill>
                <a:srgbClr val="000000"/>
              </a:solidFill>
              <a:latin typeface="Calibri"/>
            </a:endParaRPr>
          </a:p>
        </p:txBody>
      </p:sp>
      <p:sp>
        <p:nvSpPr>
          <p:cNvPr id="215" name=""/>
          <p:cNvSpPr txBox="1"/>
          <p:nvPr/>
        </p:nvSpPr>
        <p:spPr>
          <a:xfrm>
            <a:off x="457200" y="1600200"/>
            <a:ext cx="8686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 time to evaluate the scen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ar appropriate personal protective equipment (PP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attempt to do anything you are not trained to do.</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t the help needed by notifying additional personnel.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uidelines for Others’ Safety</a:t>
            </a:r>
            <a:endParaRPr b="0" lang="en-US" sz="38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 scene safety is a continuous, not an initial, proc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ver move a patient unless there is immediate dange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inuously scan for possible hazard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ppropriate emergency moves if in immediate dange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alert for potential bystander danger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19" name=""/>
          <p:cNvSpPr txBox="1"/>
          <p:nvPr/>
        </p:nvSpPr>
        <p:spPr>
          <a:xfrm>
            <a:off x="457200" y="1219320"/>
            <a:ext cx="8229600" cy="533376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e called to the scene of a motor-vehicle crash in which a driver lost control of his car. The car hit a utility pole sideways and then another parked car, eventually causing the car to land on its roof. The car was not equipped with airbags, and neither the driver nor the passenger was wearing a seat belt. The windshield on the driver’s side is shattered. The passenger in the car was thrown approximately 30 feet from the car. The front hood of the car is beginning to smoke, and there is glass and liquid all over the roadway.</a:t>
            </a: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Mechanism of Injury</a:t>
            </a:r>
            <a:endParaRPr b="0" lang="en-US" sz="3800" spc="-1" strike="noStrike">
              <a:solidFill>
                <a:srgbClr val="000000"/>
              </a:solidFill>
              <a:latin typeface="Calibri"/>
            </a:endParaRPr>
          </a:p>
        </p:txBody>
      </p:sp>
      <p:sp>
        <p:nvSpPr>
          <p:cNvPr id="221" name=""/>
          <p:cNvSpPr txBox="1"/>
          <p:nvPr/>
        </p:nvSpPr>
        <p:spPr>
          <a:xfrm>
            <a:off x="457200" y="1143000"/>
            <a:ext cx="8229600" cy="55627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hicle collis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on cras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r-end cras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de impa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tational impa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love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unt or penetrating injur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l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ast injur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dditional Resources</a:t>
            </a:r>
            <a:endParaRPr b="0" lang="en-US" sz="3800" spc="-1" strike="noStrike">
              <a:solidFill>
                <a:srgbClr val="000000"/>
              </a:solidFill>
              <a:latin typeface="Calibri"/>
            </a:endParaRPr>
          </a:p>
        </p:txBody>
      </p:sp>
      <p:sp>
        <p:nvSpPr>
          <p:cNvPr id="223" name=""/>
          <p:cNvSpPr txBox="1"/>
          <p:nvPr/>
        </p:nvSpPr>
        <p:spPr>
          <a:xfrm>
            <a:off x="533520" y="14479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vanced life suppor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 medical transpor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tility depart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e depart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w enforce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ized resources, such as HAZM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You have taken the proper precautions to make it safe for you to enter the scene and begin assessing and providing care for carbon monoxide poisoning.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azards at the Scene</a:t>
            </a:r>
            <a:endParaRPr b="0" lang="en-US" sz="3800" spc="-1" strike="noStrike">
              <a:solidFill>
                <a:srgbClr val="000000"/>
              </a:solidFill>
              <a:latin typeface="Calibri"/>
            </a:endParaRPr>
          </a:p>
        </p:txBody>
      </p:sp>
      <p:sp>
        <p:nvSpPr>
          <p:cNvPr id="227"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ffi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wned power lin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and ic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safe structur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disast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ple-casualty inciden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ile situa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icide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age situations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4:56:19Z</dcterms:created>
  <dc:creator>Mom</dc:creator>
  <dc:description/>
  <dc:language>en-US</dc:language>
  <cp:lastModifiedBy>belrod</cp:lastModifiedBy>
  <dcterms:modified xsi:type="dcterms:W3CDTF">2011-04-29T14:09:23Z</dcterms:modified>
  <cp:revision>46</cp:revision>
  <dc:subject/>
  <dc:title>You Are the Emergency Medical Responder</dc:title>
</cp:coreProperties>
</file>