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43443-BF18-4608-9A6B-6B4A457C54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81B83-0498-4EC0-AB9D-FA634572F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CC059-575B-43D1-8D1A-8079A643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F6CCE-19CF-4FCC-964D-F32C523BB4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468A2-0A78-41F6-84B6-FAB3E1CE9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08A61-9B55-43FD-B0D2-0AA128A46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FC1BA-F61E-4186-9728-7C114C3FB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21E87-AC35-434F-A754-4DCED4948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0BF26-E007-4B8C-9244-BE4A63345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512DC-521E-4DD2-84A2-92273B67B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33EDD-5129-41A7-9115-0371A02C2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1AD9F-5ABB-4999-93D7-5BB4D698E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563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cb0a21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0a21"/>
                </a:solidFill>
                <a:latin typeface="Times New Roman"/>
                <a:ea typeface="Arial"/>
              </a:rPr>
              <a:t>Emergency Medical Respo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A6120-E2CF-4286-9814-052F8E573F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0" y="152280"/>
            <a:ext cx="9140760" cy="19080"/>
          </a:xfrm>
          <a:prstGeom prst="rect">
            <a:avLst/>
          </a:prstGeom>
          <a:solidFill>
            <a:srgbClr val="56565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9" descr="ARCH2lr"/>
          <p:cNvPicPr/>
          <p:nvPr/>
        </p:nvPicPr>
        <p:blipFill>
          <a:blip r:embed="rId2"/>
          <a:stretch/>
        </p:blipFill>
        <p:spPr>
          <a:xfrm>
            <a:off x="7543800" y="6202440"/>
            <a:ext cx="1473120" cy="655560"/>
          </a:xfrm>
          <a:prstGeom prst="rect">
            <a:avLst/>
          </a:prstGeom>
          <a:ln w="0">
            <a:noFill/>
          </a:ln>
        </p:spPr>
      </p:pic>
      <p:sp>
        <p:nvSpPr>
          <p:cNvPr id="4" name="Rectangle 10"/>
          <p:cNvSpPr/>
          <p:nvPr/>
        </p:nvSpPr>
        <p:spPr>
          <a:xfrm>
            <a:off x="3240" y="6172200"/>
            <a:ext cx="9140760" cy="19080"/>
          </a:xfrm>
          <a:prstGeom prst="rect">
            <a:avLst/>
          </a:prstGeom>
          <a:solidFill>
            <a:srgbClr val="cb0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3240" y="6248520"/>
            <a:ext cx="9140760" cy="19080"/>
          </a:xfrm>
          <a:prstGeom prst="rect">
            <a:avLst/>
          </a:prstGeom>
          <a:solidFill>
            <a:srgbClr val="56565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0" y="152280"/>
            <a:ext cx="9140760" cy="19080"/>
          </a:xfrm>
          <a:prstGeom prst="rect">
            <a:avLst/>
          </a:prstGeom>
          <a:solidFill>
            <a:srgbClr val="56565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ARCH2lr"/>
          <p:cNvPicPr/>
          <p:nvPr/>
        </p:nvPicPr>
        <p:blipFill>
          <a:blip r:embed="rId2"/>
          <a:stretch/>
        </p:blipFill>
        <p:spPr>
          <a:xfrm>
            <a:off x="7543800" y="6202440"/>
            <a:ext cx="1473120" cy="6555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0"/>
          <p:cNvSpPr/>
          <p:nvPr/>
        </p:nvSpPr>
        <p:spPr>
          <a:xfrm>
            <a:off x="3240" y="6172200"/>
            <a:ext cx="9140760" cy="19080"/>
          </a:xfrm>
          <a:prstGeom prst="rect">
            <a:avLst/>
          </a:prstGeom>
          <a:solidFill>
            <a:srgbClr val="cb0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3240" y="6248520"/>
            <a:ext cx="9140760" cy="19080"/>
          </a:xfrm>
          <a:prstGeom prst="rect">
            <a:avLst/>
          </a:prstGeom>
          <a:solidFill>
            <a:srgbClr val="56565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2286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0a21"/>
                </a:solidFill>
                <a:latin typeface="Arial"/>
              </a:rPr>
              <a:t>Emergency Medical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8"/>
          <p:cNvSpPr/>
          <p:nvPr/>
        </p:nvSpPr>
        <p:spPr>
          <a:xfrm>
            <a:off x="0" y="152280"/>
            <a:ext cx="9140760" cy="19080"/>
          </a:xfrm>
          <a:prstGeom prst="rect">
            <a:avLst/>
          </a:prstGeom>
          <a:solidFill>
            <a:srgbClr val="56565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ARCH2lr"/>
          <p:cNvPicPr/>
          <p:nvPr/>
        </p:nvPicPr>
        <p:blipFill>
          <a:blip r:embed="rId2"/>
          <a:stretch/>
        </p:blipFill>
        <p:spPr>
          <a:xfrm>
            <a:off x="7543800" y="6202440"/>
            <a:ext cx="1473120" cy="65556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0"/>
          <p:cNvSpPr/>
          <p:nvPr/>
        </p:nvSpPr>
        <p:spPr>
          <a:xfrm>
            <a:off x="3240" y="6172200"/>
            <a:ext cx="9140760" cy="19080"/>
          </a:xfrm>
          <a:prstGeom prst="rect">
            <a:avLst/>
          </a:prstGeom>
          <a:solidFill>
            <a:srgbClr val="cb0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3240" y="6248520"/>
            <a:ext cx="9140760" cy="19080"/>
          </a:xfrm>
          <a:prstGeom prst="rect">
            <a:avLst/>
          </a:prstGeom>
          <a:solidFill>
            <a:srgbClr val="56565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2286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0a21"/>
                </a:solidFill>
                <a:latin typeface="Arial"/>
              </a:rPr>
              <a:t>Emergency Medical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8"/>
          <p:cNvSpPr/>
          <p:nvPr/>
        </p:nvSpPr>
        <p:spPr>
          <a:xfrm>
            <a:off x="0" y="152280"/>
            <a:ext cx="9140760" cy="19080"/>
          </a:xfrm>
          <a:prstGeom prst="rect">
            <a:avLst/>
          </a:prstGeom>
          <a:solidFill>
            <a:srgbClr val="56565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9" descr="ARCH2lr"/>
          <p:cNvPicPr/>
          <p:nvPr/>
        </p:nvPicPr>
        <p:blipFill>
          <a:blip r:embed="rId2"/>
          <a:stretch/>
        </p:blipFill>
        <p:spPr>
          <a:xfrm>
            <a:off x="7543800" y="6202440"/>
            <a:ext cx="1473120" cy="6555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10"/>
          <p:cNvSpPr/>
          <p:nvPr/>
        </p:nvSpPr>
        <p:spPr>
          <a:xfrm>
            <a:off x="3240" y="6172200"/>
            <a:ext cx="9140760" cy="19080"/>
          </a:xfrm>
          <a:prstGeom prst="rect">
            <a:avLst/>
          </a:prstGeom>
          <a:solidFill>
            <a:srgbClr val="cb0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3240" y="6248520"/>
            <a:ext cx="9140760" cy="19080"/>
          </a:xfrm>
          <a:prstGeom prst="rect">
            <a:avLst/>
          </a:prstGeom>
          <a:solidFill>
            <a:srgbClr val="56565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2286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0a21"/>
                </a:solidFill>
                <a:latin typeface="Arial"/>
              </a:rPr>
              <a:t>Emergency Medical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8"/>
          <p:cNvSpPr/>
          <p:nvPr/>
        </p:nvSpPr>
        <p:spPr>
          <a:xfrm>
            <a:off x="0" y="152280"/>
            <a:ext cx="9140760" cy="19080"/>
          </a:xfrm>
          <a:prstGeom prst="rect">
            <a:avLst/>
          </a:prstGeom>
          <a:solidFill>
            <a:srgbClr val="56565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9" descr="ARCH2lr"/>
          <p:cNvPicPr/>
          <p:nvPr/>
        </p:nvPicPr>
        <p:blipFill>
          <a:blip r:embed="rId2"/>
          <a:stretch/>
        </p:blipFill>
        <p:spPr>
          <a:xfrm>
            <a:off x="7543800" y="6202440"/>
            <a:ext cx="1473120" cy="65556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10"/>
          <p:cNvSpPr/>
          <p:nvPr/>
        </p:nvSpPr>
        <p:spPr>
          <a:xfrm>
            <a:off x="3240" y="6172200"/>
            <a:ext cx="9140760" cy="19080"/>
          </a:xfrm>
          <a:prstGeom prst="rect">
            <a:avLst/>
          </a:prstGeom>
          <a:solidFill>
            <a:srgbClr val="cb0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3240" y="6248520"/>
            <a:ext cx="9140760" cy="19080"/>
          </a:xfrm>
          <a:prstGeom prst="rect">
            <a:avLst/>
          </a:prstGeom>
          <a:solidFill>
            <a:srgbClr val="56565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2286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0a21"/>
                </a:solidFill>
                <a:latin typeface="Arial"/>
              </a:rPr>
              <a:t>Emergency Medical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You Are the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Emergency Medical Responder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You are the emergency medical responder (EMR) with an ambulance crew responding at the scene of a motorcycle accident. As you round a curve and approach the scene, you begin your size-up and see that the motorcycle driver is lying on the road, not moving, and two bystanders appear to be rendering assistance. The motorcycle is a considerable distance from where the driver is located. The motorcyclist is wearing a helme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762120" y="15228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Lesson 34: Injuries to the Head, Neck and Sp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Spinal Injuries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Signs and Symptoms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in or pressure in the back, independent of movement or palp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nderness in the area of the inju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in associated with mov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mbness, weakness, tingling or loss of feeling or movement in the extrem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tial or complete loss of movement or feeling below the suspected level of inju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fficulty breathing or shallow breat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ss of bladder and/or bowel contr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Neck and Spinal Injuries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Care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inal motion restri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roach from the fro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imary assessmen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irway and ventilation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lmet removal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ly with proper trai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ly if necessary to access and assess patient’s airw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minimum of two trained responders pres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Prevention of Head, Neck 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and Spinal Injuries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7521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nowing your risk and being aware of your surrounding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diving into a body of water if unsure of the dep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aring seatbelts in a motor vehicl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fety-proofing your home and workplace to prevent fa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ways using a stepstool or a stepladder to reach objects out of reach and not attempting to pull heavy objects that are out of reach over your he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Prevention of Head, Neck 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and Spinal Injuries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ing good lifting techn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ing nonslip treads or carpet on stairways, and securing any area ru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ing nonslip mats in the bath tub or installing handrai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nowing your risk for osteoporo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You Are the 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Emergency Medical Responder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s you assess the patient, you find that you cannot determine the status of the airway or breathing because of the patient’s helme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Removing Helmets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orts helmets and motorcycle helme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difficult to access the airway with a motorcycle helm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wo rescuers needed to remove a non-athletic helm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hletic helmet removal more challenging because of the need to remove shoulder pads to prevent further inju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ypically requires at least five trained rescu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Cervical Collar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rvical collar (C-collar): A rigid device placed around neck to limit mov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lied after in-line stabil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per sizing is essent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fter C-collar application, entire body is immobilized with a backboard, head immobilizer and stra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Head Injuries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en head inju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osed head inju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kull fract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cus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netrating wou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alp inju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Head and Brain Injury: 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Signs and Symptoms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6840" y="17521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mage to the skull, including deformity to the skull or f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in or swelling at the site of inju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rregular breat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dden, debilitating headach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usea or vomi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ontinenc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 blood pressure and slowed pul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Head and Brain Injury: 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Signs and Symptoms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-sided paralysis or droopiness; limb rigid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mporary memory loss, especially for periods immediately before and after the inju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ss of bal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ymmetrical facial mov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tered mental stat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cial bruising, including “raccoon eyes” (visible bruising around the ey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rnal blee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Head and Brain Injury: 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Signs and Symptoms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usual bumps/depres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ood/fluids from ears, mouth or no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uising behind the ears (“Battle’s sign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equal pupil size and unresponsive pupi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turbance of vision in one eye or bo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ech problem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iz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Head and Brain Injury: 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Care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mmon more advanced medical personne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llow standard precau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stablish manual stabiliz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 a primary assess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ntain an open airw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rol bleed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cerebrospinal fluid leaking from the ears or a wound in the scalp, cover the area loosely with a sterile gauze dressing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Head and Brain Injury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Care (continued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ttempt to remove any penetrating object; instead stabilize it with a bulky dressin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ntain manual stabilization until other EMS personnel arrive and immobilize the patient on a backboard. Apply a cervical collar (C-collar) if trained to do so and protocols allow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itor vital signs and mental statu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lm and reassure pati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Eye Injuries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volvement of eyeball, bone and soft tissue surrounding ey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hysician exam necessary for all inju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s of injuri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eign bod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hemical expos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mpaled objec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Neck Injuries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Signs and Symptoms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vious lacerations, swelling or brui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jects impaled in the ne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fuse external blee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aired breathing as a result of the inju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fficulty speaking or complete loss of vo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crackling sound when the patient is speaking or breathing due to air escaping from an injured trachea or laryn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structed airway caused by swelling of the thro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00:53:14Z</dcterms:created>
  <dc:creator>Mom</dc:creator>
  <dc:description/>
  <dc:language>en-US</dc:language>
  <cp:lastModifiedBy>belrod</cp:lastModifiedBy>
  <dcterms:modified xsi:type="dcterms:W3CDTF">2011-04-29T15:15:22Z</dcterms:modified>
  <cp:revision>61</cp:revision>
  <dc:subject/>
  <dc:title>You Are the Emergency Medical Responder</dc:title>
</cp:coreProperties>
</file>