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A8A8A27-50EB-45E2-BFA4-46779E12A27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DBCCC8-8FBB-4EC4-948E-64B256EB9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80E6583-3964-4152-A365-47705787E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64CFDC8-A8CC-4E57-BC9B-B981DB02FD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98F016-6B43-42A1-9F5A-EE3D5CA22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12D20C0-EE73-485B-ACB0-5E7A9FDDA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241111B-9F1C-4D60-8F09-035625684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8D0E4B0-D813-402A-B8D4-1A1E48A92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4B873D0-4FFB-45EF-8CB0-17232D25B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054F66C-F111-48B2-BD1F-9BE5F316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CFE12D-87AB-43EE-986B-F431E723E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F69F714-FB27-48BA-AF02-697A33FC5F6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54D8-031C-40D0-A0FD-C3D43048DD2A}"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Emergency Medical Responder</a:t>
            </a:r>
            <a:endParaRPr b="0" lang="en-US" sz="3800" spc="-1" strike="noStrike">
              <a:solidFill>
                <a:srgbClr val="000000"/>
              </a:solidFill>
              <a:latin typeface="Calibri"/>
            </a:endParaRPr>
          </a:p>
        </p:txBody>
      </p:sp>
      <p:sp>
        <p:nvSpPr>
          <p:cNvPr id="209" name=""/>
          <p:cNvSpPr txBox="1"/>
          <p:nvPr/>
        </p:nvSpPr>
        <p:spPr>
          <a:xfrm>
            <a:off x="456840" y="1904760"/>
            <a:ext cx="8458200" cy="47242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scene of a grocery store in response to a call that an older woman has collapsed in the store. One of the bystanders told you that she saw the woman reaching for an item on the shelf  when she suddenly fell to the floor. The woman is lying on the floor. Her eyes are open and she appears to be attempting to talk, but you cannot understand her. The one side of her face appears to be drooping and she is drooling. You notice what looks like urine underneath her buttocks and legs and vomit around her mouth and on the floor.</a:t>
            </a: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8: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Emergency Medical Responder</a:t>
            </a:r>
            <a:endParaRPr b="0" lang="en-US" sz="3800" spc="-1" strike="noStrike">
              <a:solidFill>
                <a:srgbClr val="000000"/>
              </a:solidFill>
              <a:latin typeface="Calibri"/>
            </a:endParaRPr>
          </a:p>
        </p:txBody>
      </p:sp>
      <p:sp>
        <p:nvSpPr>
          <p:cNvPr id="212" name=""/>
          <p:cNvSpPr txBox="1"/>
          <p:nvPr/>
        </p:nvSpPr>
        <p:spPr>
          <a:xfrm>
            <a:off x="533520" y="1600200"/>
            <a:ext cx="8153280" cy="49528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scene involving a young adult who got lost while hiking through a mountain trail. He was finally discovered after spending two nights in the mountains where the temperature was in the single digits and 10 inches of snow fell. His clothing is wet from the elements and his eyes appear glazed. His hands and face are cold to the touch. The fingers on his left hand appear shiny and whi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Emergency Medical Responder</a:t>
            </a:r>
            <a:endParaRPr b="0" lang="en-US" sz="3800" spc="-1" strike="noStrike">
              <a:solidFill>
                <a:srgbClr val="000000"/>
              </a:solidFill>
              <a:latin typeface="Calibri"/>
            </a:endParaRPr>
          </a:p>
        </p:txBody>
      </p:sp>
      <p:sp>
        <p:nvSpPr>
          <p:cNvPr id="214" name=""/>
          <p:cNvSpPr txBox="1"/>
          <p:nvPr/>
        </p:nvSpPr>
        <p:spPr>
          <a:xfrm>
            <a:off x="228240" y="1600200"/>
            <a:ext cx="8458200" cy="502920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2800" spc="-1" strike="noStrike">
                <a:solidFill>
                  <a:srgbClr val="000000"/>
                </a:solidFill>
                <a:latin typeface="Calibri"/>
              </a:rPr>
              <a:t>You arrive at a college dormitory in response to a 9-1-1 call about a student who has “passed out.” The patient’s roommate, who made the call, meets you at the door to the room. He states that he, the patient and several other friends had gone out to the campus bar to celebrate the end of final exams, arriving back at the dorm about 3 hours ago. The patient had been “chugging beers and downing shots of tequila all night.” The roommate tells you that he stumbled to the bathroom and then just “passed out.” The patient is lying face-down on the bathroom floor between the toilet and the sink.</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 </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ed mental status: drowsiness, confusion, partial or complete loss of consciou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iz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iz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e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bri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8" name=""/>
          <p:cNvSpPr txBox="1"/>
          <p:nvPr/>
        </p:nvSpPr>
        <p:spPr>
          <a:xfrm>
            <a:off x="457200" y="1219320"/>
            <a:ext cx="86868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bet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glycemia: decreased blood glucose leve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glycemia: increased blood glucose level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k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a:t>
            </a:r>
            <a:r>
              <a:rPr b="0" lang="en-US" sz="2800" spc="-1" strike="noStrike">
                <a:solidFill>
                  <a:srgbClr val="000000"/>
                </a:solidFill>
                <a:latin typeface="Calibri"/>
              </a:rPr>
              <a:t>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0" lang="en-US" sz="2800" spc="-1" strike="noStrike">
                <a:solidFill>
                  <a:srgbClr val="000000"/>
                </a:solidFill>
                <a:latin typeface="Calibri"/>
              </a:rPr>
              <a:t>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t>
            </a:r>
            <a:r>
              <a:rPr b="0" lang="en-US" sz="2800" spc="-1" strike="noStrike">
                <a:solidFill>
                  <a:srgbClr val="000000"/>
                </a:solidFill>
                <a:latin typeface="Calibri"/>
              </a:rPr>
              <a:t>pee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t>
            </a:r>
            <a:r>
              <a:rPr b="0" lang="en-US" sz="2800" spc="-1" strike="noStrike">
                <a:solidFill>
                  <a:srgbClr val="000000"/>
                </a:solidFill>
                <a:latin typeface="Calibri"/>
              </a:rPr>
              <a:t>im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20" name=""/>
          <p:cNvSpPr txBox="1"/>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utes of poisoning: ingestion, inhalation, absorption and inj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egories of substances: stimulants, hallucinogens, depressants, narcotics, inhalants and cannabis produc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mergencies: heat-related illnesses and cold-related emergencies, bites and stings, and water resc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al emergencies: scene size-up and rapport are ke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20:40:28Z</dcterms:created>
  <dc:creator>Mom</dc:creator>
  <dc:description/>
  <dc:language>en-US</dc:language>
  <cp:lastModifiedBy>belrod</cp:lastModifiedBy>
  <dcterms:modified xsi:type="dcterms:W3CDTF">2011-04-29T15:11:14Z</dcterms:modified>
  <cp:revision>16</cp:revision>
  <dc:subject/>
  <dc:title>Scenario 1: You Are the Emergency Responder</dc:title>
</cp:coreProperties>
</file>