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921A1E-4B4C-4D67-983E-F8CF029CA63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C82DC30-DEEC-427E-B2E7-730BAC6E5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00CFF43-A448-456E-BF46-57287B4AE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BD2B76C-5C22-408C-BF17-6D9A1BE98F4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C7E855A-C2B2-4EE0-9349-AAF3824EA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BE4D621-A0A1-4AD6-961D-2A1DE01EE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3395AB8-754F-43BF-9F94-B3B37C998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95450B0-D3A1-4380-9DE5-9C0808831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C50CAC0-5F4A-4816-AE85-1D83F0D0A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ED060CB-E014-4D4E-A3CD-415C3D926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2D72EAD-D4CE-430A-A337-FC435F126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08F9E0D-EE0F-4D81-B5CC-55E2B3EF39A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D0B6-DF4D-40A6-97E0-ECEC4D59D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091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1: You Are the Emergency Medical Responder</a:t>
            </a:r>
            <a:endParaRPr b="0" lang="en-US" sz="3800" spc="-1" strike="noStrike">
              <a:solidFill>
                <a:srgbClr val="000000"/>
              </a:solidFill>
              <a:latin typeface="Calibri"/>
            </a:endParaRPr>
          </a:p>
        </p:txBody>
      </p:sp>
      <p:sp>
        <p:nvSpPr>
          <p:cNvPr id="209" name=""/>
          <p:cNvSpPr txBox="1"/>
          <p:nvPr/>
        </p:nvSpPr>
        <p:spPr>
          <a:xfrm>
            <a:off x="533520" y="2133720"/>
            <a:ext cx="8229600" cy="45259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a local office building because a pregnant woman is thought to be in labor. The woman is 33 years old and is pregnant with her second child. When you arrive, the woman is sitting in a chair in the employee lounge with a co-worker nearby. She states that she has been having “contractions off and on for the past 30 minutes.”</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41: Putting It All Toge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2: You Are the Emergency Medical Responder</a:t>
            </a:r>
            <a:endParaRPr b="0" lang="en-US" sz="3800" spc="-1" strike="noStrike">
              <a:solidFill>
                <a:srgbClr val="000000"/>
              </a:solidFill>
              <a:latin typeface="Calibri"/>
            </a:endParaRPr>
          </a:p>
        </p:txBody>
      </p:sp>
      <p:sp>
        <p:nvSpPr>
          <p:cNvPr id="212" name=""/>
          <p:cNvSpPr txBox="1"/>
          <p:nvPr/>
        </p:nvSpPr>
        <p:spPr>
          <a:xfrm>
            <a:off x="457200" y="1905120"/>
            <a:ext cx="8229600" cy="45259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mother of a 5-year-old girl calls 9-1-1 because her daughter has been vomiting and having diarrhea for the past 24 hours. When you arrive on the scene, the mother states, “She hasn’t been able to keep anything down, including sips of water or juice, and now I’m having trouble getting her to stay awake to try and drink.”</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3: You Are the Emergency Medical Responder</a:t>
            </a:r>
            <a:endParaRPr b="0" lang="en-US" sz="3800" spc="-1" strike="noStrike">
              <a:solidFill>
                <a:srgbClr val="000000"/>
              </a:solidFill>
              <a:latin typeface="Calibri"/>
            </a:endParaRPr>
          </a:p>
        </p:txBody>
      </p:sp>
      <p:sp>
        <p:nvSpPr>
          <p:cNvPr id="214" name=""/>
          <p:cNvSpPr txBox="1"/>
          <p:nvPr/>
        </p:nvSpPr>
        <p:spPr>
          <a:xfrm>
            <a:off x="457200" y="1828800"/>
            <a:ext cx="8229600" cy="502920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nd a partner arrive at the home of a family who has called 9-1-1 because the elderly uncle has “passed out” while sitting at the dinner table. The niece states that he was eating dinner and then all of a sudden his head dropped down. “We called to him but he wouldn’t answer. I think he stopped breathing, but when we lifted his chin up he started to breathe but just barely” The patient is a 92-year-old gentleman with severe arthritis of his neck, back and upper extremities. He wears a hearing aid in his right ear.</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a:t>
            </a:r>
            <a:endParaRPr b="0" lang="en-US" sz="3800" spc="-1" strike="noStrike">
              <a:solidFill>
                <a:srgbClr val="000000"/>
              </a:solidFill>
              <a:latin typeface="Calibri"/>
            </a:endParaRPr>
          </a:p>
        </p:txBody>
      </p:sp>
      <p:sp>
        <p:nvSpPr>
          <p:cNvPr id="216" name=""/>
          <p:cNvSpPr txBox="1"/>
          <p:nvPr/>
        </p:nvSpPr>
        <p:spPr>
          <a:xfrm>
            <a:off x="457200" y="1219320"/>
            <a:ext cx="822960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gnancy: three trimesters &gt; labor &gt; birt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born car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mbilical cord</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GAR scor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ing of mouth and nasal passage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scitation if indicated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 of mother</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ivery of placenta</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ed physical and emotional suppor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 (cont’d)</a:t>
            </a:r>
            <a:endParaRPr b="0" lang="en-US" sz="3800" spc="-1" strike="noStrike">
              <a:solidFill>
                <a:srgbClr val="000000"/>
              </a:solidFill>
              <a:latin typeface="Calibri"/>
            </a:endParaRPr>
          </a:p>
        </p:txBody>
      </p:sp>
      <p:sp>
        <p:nvSpPr>
          <p:cNvPr id="218" name=""/>
          <p:cNvSpPr txBox="1"/>
          <p:nvPr/>
        </p:nvSpPr>
        <p:spPr>
          <a:xfrm>
            <a:off x="457200" y="1219320"/>
            <a:ext cx="822960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diatric patient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diatric Assessment Triangle (appearance, breathing, skin [circulat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to-toe physical exa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riatric patient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 age-related changes in physical and mental function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needs patient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tal illness, intellectual disabilities or chronic illn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8:40:29Z</dcterms:created>
  <dc:creator>Mom</dc:creator>
  <dc:description/>
  <dc:language>en-US</dc:language>
  <cp:lastModifiedBy>belrod</cp:lastModifiedBy>
  <dcterms:modified xsi:type="dcterms:W3CDTF">2011-04-29T15:19:06Z</dcterms:modified>
  <cp:revision>20</cp:revision>
  <dc:subject/>
  <dc:title>You Are the Emergency Medical Responder 1</dc:title>
</cp:coreProperties>
</file>