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5A2C92-C998-4A87-84E1-1C0D05966E0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F1B7388-6831-4707-8FB7-11080A7B8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3DC1A3A-CB9F-45CE-8542-610C81994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EF02276-2E77-4113-90C0-72B65DC54C5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E9745AB-DE98-4AA5-A63F-F1095397B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2D89FFD-20F4-4D44-BD60-93B4A756C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C4E444F-D8BF-41C1-8ED1-24A157578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93FC533-E9AB-4ABD-8B5E-1EF701536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277E2CB-34AA-4C8B-B4AE-E0C046BB07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2F06105-26A0-4A63-A901-8638C67C0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9840E13-E5EF-4B7B-8E10-B22E1B0E9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C4D00C-52F8-445B-92A3-7E8C2DF58A5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B33F-8C24-483A-8B19-64A1220A4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09" name=""/>
          <p:cNvSpPr txBox="1"/>
          <p:nvPr/>
        </p:nvSpPr>
        <p:spPr>
          <a:xfrm>
            <a:off x="609480" y="25146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r police unit responds to a scene where an elderly gentleman appears lost and disoriented. He does not know where he is, how he got there or how to get home. When you ask him what his name is, he cannot remember.</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39: Geria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You Are the </a:t>
            </a:r>
            <a:br>
              <a:rPr sz="3400"/>
            </a:br>
            <a:r>
              <a:rPr b="0" lang="en-US" sz="3400" spc="-1" strike="noStrike">
                <a:solidFill>
                  <a:srgbClr val="000000"/>
                </a:solidFill>
                <a:latin typeface="Calibri"/>
              </a:rPr>
              <a:t>Emergency Medical Responder</a:t>
            </a:r>
            <a:endParaRPr b="0" lang="en-US" sz="3400" spc="-1" strike="noStrike">
              <a:solidFill>
                <a:srgbClr val="000000"/>
              </a:solidFill>
              <a:latin typeface="Calibri"/>
            </a:endParaRPr>
          </a:p>
        </p:txBody>
      </p:sp>
      <p:sp>
        <p:nvSpPr>
          <p:cNvPr id="228" name=""/>
          <p:cNvSpPr txBox="1"/>
          <p:nvPr/>
        </p:nvSpPr>
        <p:spPr>
          <a:xfrm>
            <a:off x="685800" y="167652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s you continue your care, the man begins to remember small bits of information but still does not remember where he lives or where he is. He becomes agitated at the help being provided, saying he does not need any help.</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hysical and Mental Differences</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ed sensory sharpness and awarenes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rt muscle thickening and arterial stiffen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ed lung elasticity and airway shrink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ive tract stiffen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gnitive impairment: </a:t>
            </a:r>
            <a:r>
              <a:rPr b="0" i="1" lang="en-US" sz="2800" spc="-1" strike="noStrike">
                <a:solidFill>
                  <a:srgbClr val="000000"/>
                </a:solidFill>
                <a:latin typeface="Calibri"/>
              </a:rPr>
              <a:t>not</a:t>
            </a:r>
            <a:r>
              <a:rPr b="1" lang="en-US" sz="2800" spc="-1" strike="noStrike">
                <a:solidFill>
                  <a:srgbClr val="000000"/>
                </a:solidFill>
                <a:latin typeface="Calibri"/>
              </a:rPr>
              <a:t> </a:t>
            </a:r>
            <a:r>
              <a:rPr b="0" lang="en-US" sz="2800" spc="-1" strike="noStrike">
                <a:solidFill>
                  <a:srgbClr val="000000"/>
                </a:solidFill>
                <a:latin typeface="Calibri"/>
              </a:rPr>
              <a:t>a normal chan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ed bone dens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86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eriatric Assessment Considerations</a:t>
            </a:r>
            <a:endParaRPr b="0" lang="en-US" sz="3800" spc="-1" strike="noStrike">
              <a:solidFill>
                <a:srgbClr val="000000"/>
              </a:solidFill>
              <a:latin typeface="Calibri"/>
            </a:endParaRPr>
          </a:p>
        </p:txBody>
      </p:sp>
      <p:sp>
        <p:nvSpPr>
          <p:cNvPr id="214" name=""/>
          <p:cNvSpPr txBox="1"/>
          <p:nvPr/>
        </p:nvSpPr>
        <p:spPr>
          <a:xfrm>
            <a:off x="457200" y="1600200"/>
            <a:ext cx="822960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ak with patient’s family or caregivers to identify usual behavioral patter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lk slowly and clearly at eye level and ensure that the patient understan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inguish signs and symptoms of normal aging from those related to the emergenc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eriatric Assessment Considerations (cont’d)</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lert that the patient may tire easily or may downplay symptom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ing a peripheral pulse may be difficul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ementia</a:t>
            </a:r>
            <a:endParaRPr b="0" lang="en-US" sz="3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nic and irreversible cognitive impair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zheimer’s disease: most common type of dement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lder Abuse</a:t>
            </a:r>
            <a:endParaRPr b="0" lang="en-US" sz="3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and emotional abu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lec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ancial exploi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andon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combination of the abo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isk Factors for Elder Abuse</a:t>
            </a:r>
            <a:endParaRPr b="0" lang="en-US" sz="38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tal impairmen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olation of the patient and/or caregiv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dequate living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bility to perform daily funct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il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conflic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use or stres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and financial str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gns of Possible Elder Abuse</a:t>
            </a:r>
            <a:endParaRPr b="0" lang="en-US" sz="3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who is frequently left alon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 of emergency room visi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ld and new injur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eated fal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explained skin problems or hair lo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ppropriate dr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or hygien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lnourish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energy or spir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6" name=""/>
          <p:cNvSpPr txBox="1"/>
          <p:nvPr/>
        </p:nvSpPr>
        <p:spPr>
          <a:xfrm>
            <a:off x="456840" y="1143000"/>
            <a:ext cx="8458200" cy="5486400"/>
          </a:xfrm>
          <a:prstGeom prst="rect">
            <a:avLst/>
          </a:prstGeom>
          <a:noFill/>
          <a:ln w="0">
            <a:noFill/>
          </a:ln>
        </p:spPr>
        <p:txBody>
          <a:bodyPr lIns="90000" rIns="90000" tIns="46800" bIns="46800" anchor="t">
            <a:normAutofit/>
          </a:bodyPr>
          <a:p>
            <a:pPr lvl="1" marL="114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the home of an elderly woman who lives with her son and daughter-in-law in a small two-bedroom apartment. The son called 9-1-1 to report that his mother had fallen earlier when she was home alone. Upon arrival, you notice that the apartment is extremely cold and cluttered with old newspapers, dirty dishes and other items. The woman is sitting on the floor of the kitchen wearing only a cotton robe and slippers. She is holding her right arm near the wrist. When you ask her what happened, she hesitantly replies, “I fell.” Your assessment reveals several areas of old bruises on her inner arms and legs. </a:t>
            </a:r>
            <a:endParaRPr b="0" lang="en-US" sz="2800" spc="-1" strike="noStrike">
              <a:solidFill>
                <a:srgbClr val="000000"/>
              </a:solidFill>
              <a:latin typeface="Calibri"/>
            </a:endParaRPr>
          </a:p>
          <a:p>
            <a:pPr>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3T21:03:38Z</dcterms:created>
  <dc:creator>Mom</dc:creator>
  <dc:description/>
  <dc:language>en-US</dc:language>
  <cp:lastModifiedBy>belrod</cp:lastModifiedBy>
  <dcterms:modified xsi:type="dcterms:W3CDTF">2011-04-29T15:18:38Z</dcterms:modified>
  <cp:revision>33</cp:revision>
  <dc:subject/>
  <dc:title>You Are the Emergency Responder</dc:title>
</cp:coreProperties>
</file>