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9E59-A468-4817-9149-790FC5E7F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F25D-EF40-4C77-82EE-9A69077C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55811-85B0-4048-AAA5-23FAA8EE2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21BA6-DE74-40C2-A418-F06C3C3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7BD7A-5093-45F9-AA52-2E6DFA87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9C9F3-8752-49EA-859B-9A2808A23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E4F5F-FCCB-41F5-AD35-0BA86FF8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6559B-DA52-4A60-A061-96098E6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43EF-8F0C-4ECA-9985-64419668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4A209-E5AD-4051-8E69-B36709759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33EB-DC44-425E-B39C-AA5AC218B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3ABBA-F10F-472B-8168-E4B792DA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E3CA-6D56-4855-A9C6-B6CA04BD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FFEB2-79FB-467A-A949-FFD8D06D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cb0a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Times New Roman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1687-5E64-4131-AFF5-947B1737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e the emergency medical responder (EMR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cene of a construction site cave-in. On arrival you find a man who was working in an open trench that has collapsed around him to mid-chest le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762120" y="152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esson 47: Special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onfined Spac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, above or below 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los, grain bins and grain elev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ground va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va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ve-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d rescue team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ne to enter trench or area immediately around it due to increased risk of secondary cave-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rime Scene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 typ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osed access to an unsecured crime scene―hazard still ex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-access crime scene―critical evidence could be destroyed or compromised; hazards still may be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-access crime scene―evidence still needs to be collected, but personnel have access to entir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d crime scene―no evidential concerns or hazards are pres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rive at the scene of a convenience store robbery in which a store employee was shot in the leg. The suspect has been caught and is in police custody. You are to provide care to the store employ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Basic Guidelines for Fir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pproach a burning vehic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ter a burning or smoke-filled build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in a building that is on fire,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heck doors before opening them. If a door is hot to the touch, d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pen i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ce smoke and fumes rise, stay close to the flo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ev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use an elevator in a building that may be bur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ecial Event/Stand-by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 event EMS incident commander in char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ff certified in BLS or 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available to care for special event spectators or participants within 10 minutes of notification of the need for emergency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find that the patient is conscious but appears to be in respiratory distress from the compression of the soil surrounding hi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pecial Operations Uni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ctical Emergency Medical Services (EMS)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zardous Materials (HAZMAT) EMS Respon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 Rehabilitation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aster/Multiple-Casualty Incident (MCI) Respon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and Rescue (SAR)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cialized Vehicle Respons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rown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drowning is an event in which a victim experiences respiratory impairment due to submersion in water. Drowning may or may not result in dea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most common cause of death from unintentional injury, but rises to second among those 1 to 14 years of age.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me pools the site of drowning for most young childr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st rates of drowning in children younger than 5 years and young adults from ages 15 to 24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ree Types of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Water-Related Victi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23880"/>
            <a:ext cx="4343400" cy="46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essed swim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wning victim—A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wning victim—Pa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5" descr="Picture"/>
          <p:cNvPicPr/>
          <p:nvPr/>
        </p:nvPicPr>
        <p:blipFill>
          <a:blip r:embed="rId1"/>
          <a:srcRect l="4081" t="31056" r="2043" b="26077"/>
          <a:stretch/>
        </p:blipFill>
        <p:spPr>
          <a:xfrm>
            <a:off x="5105520" y="1600200"/>
            <a:ext cx="3504960" cy="1143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Picture"/>
          <p:cNvPicPr/>
          <p:nvPr/>
        </p:nvPicPr>
        <p:blipFill>
          <a:blip r:embed="rId2"/>
          <a:srcRect l="5002" t="30317" r="23752" b="28640"/>
          <a:stretch/>
        </p:blipFill>
        <p:spPr>
          <a:xfrm>
            <a:off x="5181480" y="4800600"/>
            <a:ext cx="3378240" cy="1295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rcRect l="0" t="15094" r="0" b="9437"/>
          <a:stretch/>
        </p:blipFill>
        <p:spPr>
          <a:xfrm>
            <a:off x="5715000" y="3124080"/>
            <a:ext cx="24084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e assigned to a local waterfront as part of the EMR team because you have received training in swimming rescues. You are stationed near a lake and notice that a young teenage swimmer has been treading water for the past several minutes and then begins to move her arms wild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Non-Swimming Rescues and Assis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hing ass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wing ass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ding ass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e assigned to a local waterfront as part of the EMR team because you have received training in swimming rescues. You are stationed near a lake and notice that a young teenage swimmer has been treading water for the past several minutes and then begins to move her arms wild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ce Rescu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 for ice rescue team immediate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ver go onto the ice to attempt a rescu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reaching and throwing assists if patient is drow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are for hypothermia if you are able to pull the person from the wat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azardous Terrain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cuation possibly rough and difficult for maneuv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tient’s position in relation to ter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78080" indent="-46368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greater the angle of the terrain, the greater the ris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20:58:04Z</dcterms:created>
  <dc:creator>Mom</dc:creator>
  <dc:description/>
  <dc:language>en-US</dc:language>
  <cp:lastModifiedBy>belrod</cp:lastModifiedBy>
  <dcterms:modified xsi:type="dcterms:W3CDTF">2011-04-29T15:38:20Z</dcterms:modified>
  <cp:revision>48</cp:revision>
  <dc:subject/>
  <dc:title>You Are the Emergency Responder</dc:title>
</cp:coreProperties>
</file>