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9F107-2CFC-4B75-BFCB-4D4033C5BD0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AA938-5F8F-48E8-A585-2C7140AF0B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1A6B47-0C9D-430C-AED2-732F9B2D538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BD3AB16-4E2A-45D0-AF84-1995FC913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7A29319-E386-4282-988E-495C65237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582417A-0D79-4CC7-988D-8A8D0AD440A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C6F4402-5A57-4493-8202-1FD2274C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7DA42D-E64F-40CC-8781-53133FDAC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482B8B0-E071-4D9D-9493-842E54970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5F65248F-0D45-4DB6-AE9B-EB489434F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6AA08DC-CBF4-422D-AFE9-82FC0DF5F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7E2715-AAFA-463F-8391-00CF9806E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F7D9138-FE1F-48F7-82B2-53527995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5DCF48E-76A0-477E-873F-513234EA220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9634-0371-4F29-8655-7F2F9E240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DSC_0068_lowres.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You Are the </a:t>
            </a:r>
            <a:br>
              <a:rPr sz="3400"/>
            </a:br>
            <a:r>
              <a:rPr b="0" lang="en-US" sz="3400" spc="-1" strike="noStrike">
                <a:solidFill>
                  <a:srgbClr val="000000"/>
                </a:solidFill>
                <a:latin typeface="Calibri"/>
              </a:rPr>
              <a:t>Emergency Medical Responder</a:t>
            </a:r>
            <a:endParaRPr b="0" lang="en-US" sz="3400" spc="-1" strike="noStrike">
              <a:solidFill>
                <a:srgbClr val="000000"/>
              </a:solidFill>
              <a:latin typeface="Calibri"/>
            </a:endParaRPr>
          </a:p>
        </p:txBody>
      </p:sp>
      <p:sp>
        <p:nvSpPr>
          <p:cNvPr id="216" name=""/>
          <p:cNvSpPr txBox="1"/>
          <p:nvPr/>
        </p:nvSpPr>
        <p:spPr>
          <a:xfrm>
            <a:off x="457200" y="1828440"/>
            <a:ext cx="8229600" cy="42973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s the closest responders in the area, your police unit is called to the scene where an elderly woman has collapsed in front of her home. When you arrive, a neighbor tells you that the woman suddenly collapsed and tripped on the concrete step in the walkway in front of her home. She is now conscious but a little dazed, and you find that she is also very frightened   and apprehensive.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11: Communication and Docum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Respond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s you assess the elderly patient, you learn that her chief complaint is that she “blacked out” momentarily and fell. The patient is afraid that she has broken her hip. She has pain in her pelvis and is unable to move her left leg. You give a verbal update to the EMS personnel who have just arrived to take over medical care and transport the patient.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Key Components of EMS System</a:t>
            </a:r>
            <a:endParaRPr b="0" lang="en-US" sz="38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s center (dispatc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direct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ing facil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S personnel in the fie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mponents of </a:t>
            </a:r>
            <a:br>
              <a:rPr sz="3800"/>
            </a:br>
            <a:r>
              <a:rPr b="0" lang="en-US" sz="3800" spc="-1" strike="noStrike">
                <a:solidFill>
                  <a:srgbClr val="000000"/>
                </a:solidFill>
                <a:latin typeface="Calibri"/>
              </a:rPr>
              <a:t>Radio Communication for EMS</a:t>
            </a:r>
            <a:endParaRPr b="0" lang="en-US" sz="3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e st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bile radios and data termina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rtable radio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eate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terpersonal Communication</a:t>
            </a:r>
            <a:endParaRPr b="0" lang="en-US" sz="38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 empathy: be understanding and culturally sensitive to the thoughts, feelings and experiences of another pers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positive relationshi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self-introdu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information about your r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e other team memb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the home of an elderly couple in response to a 9-1-1 call for assistance. The couple’s daughter called because her father, who is bedridden due to a stroke, was having difficulty breathing. The daughter is providing the information because the elderly couple speaks very little English.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unctions of the </a:t>
            </a:r>
            <a:br>
              <a:rPr sz="3800"/>
            </a:br>
            <a:r>
              <a:rPr b="0" lang="en-US" sz="3800" spc="-1" strike="noStrike">
                <a:solidFill>
                  <a:srgbClr val="000000"/>
                </a:solidFill>
                <a:latin typeface="Calibri"/>
              </a:rPr>
              <a:t>Prehospital Care Report</a:t>
            </a:r>
            <a:endParaRPr b="0" lang="en-US" sz="38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function: ensures high-quality ca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fun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al docu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ucational and research too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tool</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ehospital Care Report Sample</a:t>
            </a:r>
            <a:endParaRPr b="0" lang="en-US" sz="3800" spc="-1" strike="noStrike">
              <a:solidFill>
                <a:srgbClr val="000000"/>
              </a:solidFill>
              <a:latin typeface="Calibri"/>
            </a:endParaRPr>
          </a:p>
        </p:txBody>
      </p:sp>
      <p:pic>
        <p:nvPicPr>
          <p:cNvPr id="229" name="Picture 6" descr="Picture">
            <a:hlinkClick r:id="rId1"/>
          </p:cNvPr>
          <p:cNvPicPr/>
          <p:nvPr/>
        </p:nvPicPr>
        <p:blipFill>
          <a:blip r:embed="rId2"/>
          <a:stretch/>
        </p:blipFill>
        <p:spPr>
          <a:xfrm>
            <a:off x="4419720" y="1905120"/>
            <a:ext cx="3962160" cy="2649240"/>
          </a:xfrm>
          <a:prstGeom prst="rect">
            <a:avLst/>
          </a:prstGeom>
          <a:ln w="0">
            <a:noFill/>
          </a:ln>
        </p:spPr>
      </p:pic>
      <p:pic>
        <p:nvPicPr>
          <p:cNvPr id="230" name="Picture 6" descr="https://extranet.medimedia.com/sites/Staywell-ARC/filestore/StayWell_Internal_ImagesToReview/EMR_PPT_image_lowres/Chap1-16/pcr2004_Page_1.jpg"/>
          <p:cNvPicPr/>
          <p:nvPr/>
        </p:nvPicPr>
        <p:blipFill>
          <a:blip r:embed="rId3"/>
          <a:stretch/>
        </p:blipFill>
        <p:spPr>
          <a:xfrm>
            <a:off x="380880" y="1143000"/>
            <a:ext cx="371016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ctions of the</a:t>
            </a:r>
            <a:r>
              <a:rPr b="0" lang="en-US" sz="4000" spc="-1" strike="noStrike">
                <a:solidFill>
                  <a:srgbClr val="000000"/>
                </a:solidFill>
                <a:latin typeface="Calibri"/>
              </a:rPr>
              <a:t> </a:t>
            </a:r>
            <a:br>
              <a:rPr sz="4000"/>
            </a:br>
            <a:r>
              <a:rPr b="0" lang="en-US" sz="3800" spc="-1" strike="noStrike">
                <a:solidFill>
                  <a:srgbClr val="000000"/>
                </a:solidFill>
                <a:latin typeface="Calibri"/>
              </a:rPr>
              <a:t>Prehospital Care Report</a:t>
            </a:r>
            <a:endParaRPr b="0" lang="en-US" sz="38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n dat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dat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box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narrativ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inimum Data Set</a:t>
            </a:r>
            <a:endParaRPr b="0" lang="en-US" sz="38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information gathered by EM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rative information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7T18:37:37Z</dcterms:created>
  <dc:creator>Mom</dc:creator>
  <dc:description/>
  <dc:language>en-US</dc:language>
  <cp:lastModifiedBy>belrod</cp:lastModifiedBy>
  <dcterms:modified xsi:type="dcterms:W3CDTF">2011-04-29T14:11:35Z</dcterms:modified>
  <cp:revision>26</cp:revision>
  <dc:subject/>
  <dc:title>You Are the Emergency Medical Responder</dc:title>
</cp:coreProperties>
</file>