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982EC7-06F1-48CB-9C46-5FF1DBDA92C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C99F282-C429-425A-8685-FEE78C414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EAF0D00-49F9-49B0-886C-6BC5D9593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B3B1C7F-91A2-4C5E-A099-FF6AC46A4E3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FBF4E5A-5B0B-4101-BB5E-F43A61F7E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87BCF39-5864-4DB0-83C9-6536B9C17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A79AD30-B3AD-43E1-AA6E-1725828C5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48953E7F-DC82-4486-8BC1-4E079332F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0A052BB-1538-43DD-AA48-5C57E7A41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D16B226-B42D-4779-9A4D-8F1EFAFFB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08D4CD1-1B1B-45D3-B9E2-2D50C1211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A4A22F9-9DCC-44C9-84B8-8E664672AA4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D05AF-98FC-4A5F-8B7B-A2475E6857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685440"/>
            <a:ext cx="8229600" cy="1600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1: You Are the </a:t>
            </a:r>
            <a:br>
              <a:rPr sz="3800"/>
            </a:br>
            <a:r>
              <a:rPr b="0" lang="en-US" sz="3800" spc="-1" strike="noStrike">
                <a:solidFill>
                  <a:srgbClr val="000000"/>
                </a:solidFill>
                <a:latin typeface="Calibri"/>
              </a:rPr>
              <a:t>Emergency Medical Responder </a:t>
            </a:r>
            <a:endParaRPr b="0" lang="en-US" sz="3800" spc="-1" strike="noStrike">
              <a:solidFill>
                <a:srgbClr val="000000"/>
              </a:solidFill>
              <a:latin typeface="Calibri"/>
            </a:endParaRPr>
          </a:p>
        </p:txBody>
      </p:sp>
      <p:sp>
        <p:nvSpPr>
          <p:cNvPr id="209" name=""/>
          <p:cNvSpPr txBox="1"/>
          <p:nvPr/>
        </p:nvSpPr>
        <p:spPr>
          <a:xfrm>
            <a:off x="457200" y="2057040"/>
            <a:ext cx="8229600" cy="42973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You arrive at a local shopping mall in response to a call that a middle-aged woman has collapsed in the food court. A friend states that the woman was feeling sick to her stomach, got really pale and sweaty and then just collapsed. Several people are standing around the patient. Another bystander has begun performing CPR.</a:t>
            </a:r>
            <a:endParaRPr b="0" lang="en-US" sz="2800" spc="-1" strike="noStrike">
              <a:solidFill>
                <a:srgbClr val="000000"/>
              </a:solidFill>
              <a:latin typeface="Calibri"/>
            </a:endParaRPr>
          </a:p>
        </p:txBody>
      </p:sp>
      <p:sp>
        <p:nvSpPr>
          <p:cNvPr id="210"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22: Putting It All Toge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2: 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You are called to the home of the parents of a           10 month old because the parents are unable to wake the infant and noticed that he was not breathing. The parents are distraught and sobbing. You find the infant lying prone in his crib.</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3: 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14" name=""/>
          <p:cNvSpPr txBox="1"/>
          <p:nvPr/>
        </p:nvSpPr>
        <p:spPr>
          <a:xfrm>
            <a:off x="685440" y="1600200"/>
            <a:ext cx="8077320" cy="502920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nd your partner arrive on the scene of a motor-vehicle crash in which a car veered off the road and landed in a small creek containing about 6 inches of water. The driver of the vehicle is unconscious, not breathing and has no pulse. A passenger in the car is alert and reports that the patient complained of feeling light-headed and then “grabbed his chest before losing control of the car.” The passenger is complaining of some pain in the right knee from hitting the dashboard. Your emergency vehicle is equipped with an AED.</a:t>
            </a:r>
            <a:endParaRPr b="0" lang="en-US" sz="2800" spc="-1" strike="noStrike">
              <a:solidFill>
                <a:srgbClr val="000000"/>
              </a:solidFill>
              <a:latin typeface="Calibri"/>
            </a:endParaRPr>
          </a:p>
          <a:p>
            <a:pPr>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utting It All Together</a:t>
            </a:r>
            <a:endParaRPr b="0" lang="en-US" sz="3800" spc="-1" strike="noStrike">
              <a:solidFill>
                <a:srgbClr val="000000"/>
              </a:solidFill>
              <a:latin typeface="Calibri"/>
            </a:endParaRPr>
          </a:p>
        </p:txBody>
      </p:sp>
      <p:sp>
        <p:nvSpPr>
          <p:cNvPr id="216" name=""/>
          <p:cNvSpPr txBox="1"/>
          <p:nvPr/>
        </p:nvSpPr>
        <p:spPr>
          <a:xfrm>
            <a:off x="457200" y="1219320"/>
            <a:ext cx="8229600" cy="5410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diovascular disease </a:t>
            </a:r>
            <a:r>
              <a:rPr b="0" lang="en-US" sz="2800" spc="-1" strike="noStrike">
                <a:solidFill>
                  <a:srgbClr val="000000"/>
                </a:solidFill>
                <a:latin typeface="Calibri"/>
              </a:rPr>
              <a:t>is the leading cause of death in the United Stat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diac Chain of Survival: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ly recognition and early access to the EMS system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ly CPR</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ly defibrillation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ly advanced medical car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PR: chest compressions and ventilatio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ED: to re-establish an effective rhythm</a:t>
            </a:r>
            <a:endParaRPr b="0" lang="en-US" sz="2800" spc="-1" strike="noStrike">
              <a:solidFill>
                <a:srgbClr val="000000"/>
              </a:solidFill>
              <a:latin typeface="Calibri"/>
            </a:endParaRPr>
          </a:p>
          <a:p>
            <a:pPr lvl="1" marL="743040" indent="-28584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8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15:58:07Z</dcterms:created>
  <dc:creator>Mom</dc:creator>
  <dc:description/>
  <dc:language>en-US</dc:language>
  <cp:lastModifiedBy>belrod</cp:lastModifiedBy>
  <dcterms:modified xsi:type="dcterms:W3CDTF">2011-04-29T14:25:11Z</dcterms:modified>
  <cp:revision>22</cp:revision>
  <dc:subject/>
  <dc:title>You Are the Emergency Medical Responder 1</dc:title>
</cp:coreProperties>
</file>