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08C29D-8717-487F-82E7-300A7834C94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6BDFB4F-D166-4206-B489-F36E021E1C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3B59EAD-B811-439E-B531-8A8E8B7E5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B330BA6-F1EC-41C4-856D-F7EAAD18FF2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B618F8D-AF13-468A-9F2A-612CD3A54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EB5D0CA-1A20-45AA-A4F7-3CA95B419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F4B007A-33FD-476E-BCF9-160C93F77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382DD54-1843-4385-A1A6-40D807972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B84854C-1B8C-4386-BDBF-476A07B94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1C5867A-B245-42B9-871E-466412674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B22F4B7-1422-49DE-8280-D83FCA761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072977-5641-4098-BF01-AD2BA2F1D68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1EDC-B421-4321-AEEA-D49C149566BB}"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960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228240" y="1752480"/>
            <a:ext cx="8915400" cy="510552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the emergency medical responder (EMR) responding to a scene on a downtown street involving a male who appears to be about 60 years old. He is confused and appears agitated. Several bystanders state that they saw the man wandering aimlessly and that he appeared to be lost. Upon interviewing the patient all you can learn is that his name is Earl. He does not seem to know where he is or where he is going. During your physical exam you note that the patient is sweating profusely but, other than his diminished level of consciousness (LOC), his vital signs are normal. More advanced medical personnel have been called. As an EMR, you want to provide proper care for the patient.</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3: Medical Emergenc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e for Seizures </a:t>
            </a:r>
            <a:endParaRPr b="0" lang="en-US" sz="3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it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ing the patient from inju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ing the airw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abetes</a:t>
            </a:r>
            <a:endParaRPr b="0" lang="en-US" sz="3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major typ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1</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2</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glycemia (glucose high; insulin low)</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glycemia (glucose low; insulin high)</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abetic Emergencies </a:t>
            </a:r>
            <a:br>
              <a:rPr sz="3800"/>
            </a:br>
            <a:r>
              <a:rPr b="0" lang="en-US" sz="3800" spc="-1" strike="noStrike">
                <a:solidFill>
                  <a:srgbClr val="000000"/>
                </a:solidFill>
                <a:latin typeface="Calibri"/>
              </a:rPr>
              <a:t>Signs and Symptoms</a:t>
            </a:r>
            <a:endParaRPr b="0" lang="en-US" sz="3800" spc="-1" strike="noStrike">
              <a:solidFill>
                <a:srgbClr val="000000"/>
              </a:solidFill>
              <a:latin typeface="Calibri"/>
            </a:endParaRPr>
          </a:p>
        </p:txBody>
      </p:sp>
      <p:sp>
        <p:nvSpPr>
          <p:cNvPr id="233" name=""/>
          <p:cNvSpPr txBox="1"/>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in LO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regular breathing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normal pulse (rapid or wea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ing or feeling il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normal skin characteristic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e for Diabetic Emergencies</a:t>
            </a:r>
            <a:endParaRPr b="0" lang="en-US" sz="3800" spc="-1" strike="noStrike">
              <a:solidFill>
                <a:srgbClr val="000000"/>
              </a:solidFill>
              <a:latin typeface="Calibri"/>
            </a:endParaRPr>
          </a:p>
        </p:txBody>
      </p:sp>
      <p:sp>
        <p:nvSpPr>
          <p:cNvPr id="235" name=""/>
          <p:cNvSpPr txBox="1"/>
          <p:nvPr/>
        </p:nvSpPr>
        <p:spPr>
          <a:xfrm>
            <a:off x="457200" y="914400"/>
            <a:ext cx="8229600" cy="5562720"/>
          </a:xfrm>
          <a:prstGeom prst="rect">
            <a:avLst/>
          </a:prstGeom>
          <a:noFill/>
          <a:ln w="0">
            <a:noFill/>
          </a:ln>
        </p:spPr>
        <p:txBody>
          <a:bodyPr lIns="90000" rIns="90000" tIns="46800" bIns="46800"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form a primary assessment and care for life-threatening conditions</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duct a physical exam and SAMPLE history (if patient is conscious); note medical ID tag or bracelet</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cious patien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ive sugar (glucose tablets, fruit juice, nondiet soft drink, table sugar or commercial sugar source)</a:t>
            </a: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conscious patien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nitor patient’s condition, prevent chilling or overheating, summon more advanced medical personnel and administer emergency oxygen, if available </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roke </a:t>
            </a:r>
            <a:endParaRPr b="0" lang="en-US" sz="3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ebrovascular accident or brain attac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ood clots blocking blood flow to brai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pture and bleeding of arteries in the brai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ient ischemic attack (TIA): “mini-strok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roke: Signs and Symptoms</a:t>
            </a:r>
            <a:endParaRPr b="0" lang="en-US" sz="3800" spc="-1" strike="noStrike">
              <a:solidFill>
                <a:srgbClr val="000000"/>
              </a:solidFill>
              <a:latin typeface="Calibri"/>
            </a:endParaRPr>
          </a:p>
        </p:txBody>
      </p:sp>
      <p:sp>
        <p:nvSpPr>
          <p:cNvPr id="239" name=""/>
          <p:cNvSpPr txBox="1"/>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ing or feeling ill (comm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kness or numbness (face, arm or le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al drooping or drool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ch difficul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ual disturbances or lo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zziness, confusion, agitation or loss of conscious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s of balance or coord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ntin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roke Assessment Scales</a:t>
            </a:r>
            <a:endParaRPr b="0" lang="en-US" sz="3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ncinnati Prehospital Stroke Sca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ST</a:t>
            </a:r>
            <a:endParaRPr b="0" lang="en-US" sz="2800" spc="-1" strike="noStrike">
              <a:solidFill>
                <a:srgbClr val="000000"/>
              </a:solidFill>
              <a:latin typeface="Calibri"/>
            </a:endParaRPr>
          </a:p>
          <a:p>
            <a:pPr lvl="2" marL="1143000" indent="-285840">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a:t>
            </a:r>
            <a:endParaRPr b="0" lang="en-US" sz="2800" spc="-1" strike="noStrike">
              <a:solidFill>
                <a:srgbClr val="000000"/>
              </a:solidFill>
              <a:latin typeface="Calibri"/>
            </a:endParaRPr>
          </a:p>
          <a:p>
            <a:pPr lvl="2" marL="1143000" indent="-285840">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m </a:t>
            </a:r>
            <a:endParaRPr b="0" lang="en-US" sz="2800" spc="-1" strike="noStrike">
              <a:solidFill>
                <a:srgbClr val="000000"/>
              </a:solidFill>
              <a:latin typeface="Calibri"/>
            </a:endParaRPr>
          </a:p>
          <a:p>
            <a:pPr lvl="2" marL="1143000" indent="-285840">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ech</a:t>
            </a:r>
            <a:endParaRPr b="0" lang="en-US" sz="2800" spc="-1" strike="noStrike">
              <a:solidFill>
                <a:srgbClr val="000000"/>
              </a:solidFill>
              <a:latin typeface="Calibri"/>
            </a:endParaRPr>
          </a:p>
          <a:p>
            <a:pPr lvl="2" marL="1143000" indent="-285840">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 Angeles Prehospital Stroke Screen (LAP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e for Stroke</a:t>
            </a:r>
            <a:endParaRPr b="0" lang="en-US" sz="3800" spc="-1" strike="noStrike">
              <a:solidFill>
                <a:srgbClr val="000000"/>
              </a:solidFill>
              <a:latin typeface="Calibri"/>
            </a:endParaRPr>
          </a:p>
        </p:txBody>
      </p:sp>
      <p:sp>
        <p:nvSpPr>
          <p:cNvPr id="243"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an open airwa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for life-threatening condi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 the patient on side to allow fluids to drai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itor the patient’s cond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er comfort and reassurance (if consciou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give anything by mouth</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bdominal Pain</a:t>
            </a:r>
            <a:endParaRPr b="0" lang="en-US" sz="3800" spc="-1" strike="noStrike">
              <a:solidFill>
                <a:srgbClr val="000000"/>
              </a:solidFill>
              <a:latin typeface="Calibri"/>
            </a:endParaRPr>
          </a:p>
        </p:txBody>
      </p:sp>
      <p:sp>
        <p:nvSpPr>
          <p:cNvPr id="245" name=""/>
          <p:cNvSpPr txBox="1"/>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dden onset: Acute abdom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nsity of pain not necessarily an indicator of the seriousness of the cond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an open airway; call for transpo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for signs of potential aspiration due to vomi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give anything by mou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for signs of sh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alysis: Special Considerations</a:t>
            </a:r>
            <a:endParaRPr b="0" lang="en-US" sz="3800" spc="-1" strike="noStrike">
              <a:solidFill>
                <a:srgbClr val="000000"/>
              </a:solidFill>
              <a:latin typeface="Calibri"/>
            </a:endParaRPr>
          </a:p>
        </p:txBody>
      </p:sp>
      <p:sp>
        <p:nvSpPr>
          <p:cNvPr id="247" name=""/>
          <p:cNvSpPr txBox="1"/>
          <p:nvPr/>
        </p:nvSpPr>
        <p:spPr>
          <a:xfrm>
            <a:off x="457200" y="1295280"/>
            <a:ext cx="82296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on past dialysis and complications; current dialysis session; patient’s dry weight; amount of fluid remov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id status, mental status, cardiac rhythm and shunt location (and whether active or non-function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associated medical proble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of possible hypovolemia or hypervolemi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s and symptoms of altered mental statu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ac rhyth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neral Medical Complaints</a:t>
            </a:r>
            <a:endParaRPr b="0" lang="en-US" sz="3800" spc="-1" strike="noStrike">
              <a:solidFill>
                <a:srgbClr val="000000"/>
              </a:solidFill>
              <a:latin typeface="Calibri"/>
            </a:endParaRPr>
          </a:p>
        </p:txBody>
      </p:sp>
      <p:sp>
        <p:nvSpPr>
          <p:cNvPr id="212" name=""/>
          <p:cNvSpPr txBox="1"/>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uidelines for care are the same as for any emergenc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ze-up the sce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primary assess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 a SAMPLE history and secondary assess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on more advanced medical personne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 the patient as necessary.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he patient saf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49"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s you continue monitoring the patient, he becomes even more confused and agitated. You begin to notice signs of shock.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asic Pharmacology: Drug Names</a:t>
            </a:r>
            <a:endParaRPr b="0" lang="en-US" sz="3800" spc="-1" strike="noStrike">
              <a:solidFill>
                <a:srgbClr val="000000"/>
              </a:solidFill>
              <a:latin typeface="Calibri"/>
            </a:endParaRPr>
          </a:p>
        </p:txBody>
      </p:sp>
      <p:sp>
        <p:nvSpPr>
          <p:cNvPr id="2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mic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i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e or br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rug Profile </a:t>
            </a:r>
            <a:endParaRPr b="0" lang="en-US" sz="3800" spc="-1" strike="noStrike">
              <a:solidFill>
                <a:srgbClr val="000000"/>
              </a:solidFill>
              <a:latin typeface="Calibri"/>
            </a:endParaRPr>
          </a:p>
        </p:txBody>
      </p:sp>
      <p:sp>
        <p:nvSpPr>
          <p:cNvPr id="253"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ain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de effec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s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ute (oral, sublingual, inhalation, injection, topical, intravenous, vaginal, rect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rug Administration</a:t>
            </a:r>
            <a:endParaRPr b="0" lang="en-US" sz="3800" spc="-1" strike="noStrike">
              <a:solidFill>
                <a:srgbClr val="000000"/>
              </a:solidFill>
              <a:latin typeface="Calibri"/>
            </a:endParaRPr>
          </a:p>
        </p:txBody>
      </p:sp>
      <p:sp>
        <p:nvSpPr>
          <p:cNvPr id="255" name=""/>
          <p:cNvSpPr txBox="1"/>
          <p:nvPr/>
        </p:nvSpPr>
        <p:spPr>
          <a:xfrm>
            <a:off x="457200" y="1143000"/>
            <a:ext cx="8229600" cy="5486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Righ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 patien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 medica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 rout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 dos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 da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only by routes EMR has been licensed or authorized to adminis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 effec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 reason for administr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lood Glucose Monitoring</a:t>
            </a:r>
            <a:endParaRPr b="0" lang="en-US" sz="3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ing a drop of blood on a test strip using a glucometer</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 level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 to 130 mg/dL before me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ss than 180 mg/dL after meals</a:t>
            </a:r>
            <a:endParaRPr b="0" lang="en-US" sz="2800" spc="-1" strike="noStrike">
              <a:solidFill>
                <a:srgbClr val="000000"/>
              </a:solidFill>
              <a:latin typeface="Calibri"/>
            </a:endParaRPr>
          </a:p>
          <a:p>
            <a:pPr marL="514440" indent="-5144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glycemia: less than 70 mg/dL</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e for Hypoglycemia</a:t>
            </a:r>
            <a:endParaRPr b="0" lang="en-US" sz="3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consci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two to five glucose tablets or about 12 ounces fruit juice or nondiet soft drin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heck BGL in 15 minut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unconsci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on more advanced medical personne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ltered Mental Status</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dden or gradual change in a person’s LO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owsiness or confu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al or complete loss of consciousn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uses of Altered Mental Status </a:t>
            </a:r>
            <a:br>
              <a:rPr sz="3800"/>
            </a:br>
            <a:r>
              <a:rPr b="0" lang="en-US" sz="3800" spc="-1" strike="noStrike">
                <a:solidFill>
                  <a:srgbClr val="000000"/>
                </a:solidFill>
                <a:latin typeface="Calibri"/>
              </a:rPr>
              <a:t>in Adults</a:t>
            </a:r>
            <a:endParaRPr b="0" lang="en-US" sz="3800" spc="-1" strike="noStrike">
              <a:solidFill>
                <a:srgbClr val="000000"/>
              </a:solidFill>
              <a:latin typeface="Calibri"/>
            </a:endParaRPr>
          </a:p>
        </p:txBody>
      </p:sp>
      <p:sp>
        <p:nvSpPr>
          <p:cNvPr id="216" name=""/>
          <p:cNvSpPr txBox="1"/>
          <p:nvPr/>
        </p:nvSpPr>
        <p:spPr>
          <a:xfrm>
            <a:off x="457200" y="1905120"/>
            <a:ext cx="40384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ver or infe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soning or overdo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ood sugar/endocrine problem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inju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dequate oxygenation or venti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
          <p:cNvSpPr txBox="1"/>
          <p:nvPr/>
        </p:nvSpPr>
        <p:spPr>
          <a:xfrm>
            <a:off x="4572000" y="1828440"/>
            <a:ext cx="4038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leading to decreased blood flow or oxygen to the bra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ac or diabetic emergenc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ck</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k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havioral ill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izur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uses of Altered Mental Status </a:t>
            </a:r>
            <a:br>
              <a:rPr sz="3800"/>
            </a:br>
            <a:r>
              <a:rPr b="0" lang="en-US" sz="3800" spc="-1" strike="noStrike">
                <a:solidFill>
                  <a:srgbClr val="000000"/>
                </a:solidFill>
                <a:latin typeface="Calibri"/>
              </a:rPr>
              <a:t>in Children</a:t>
            </a:r>
            <a:endParaRPr b="0" lang="en-US" sz="38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fail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xemia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ck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glycemia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in injury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izu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soning or intentional overdos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si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ingiti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thermia or hypotherm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e for Altered Mental Status</a:t>
            </a:r>
            <a:endParaRPr b="0" lang="en-US" sz="3800" spc="-1" strike="noStrike">
              <a:solidFill>
                <a:srgbClr val="000000"/>
              </a:solidFill>
              <a:latin typeface="Calibri"/>
            </a:endParaRPr>
          </a:p>
        </p:txBody>
      </p:sp>
      <p:sp>
        <p:nvSpPr>
          <p:cNvPr id="221"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 primary and secondary assessments and SAMPLE histo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ongoing assess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an open airway; place in a recovery pos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nothing to eat or drin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spinal precautions if trauma is suspect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sen restrictive clot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izures</a:t>
            </a:r>
            <a:endParaRPr b="0" lang="en-US" sz="3800" spc="-1" strike="noStrike">
              <a:solidFill>
                <a:srgbClr val="000000"/>
              </a:solidFill>
              <a:latin typeface="Calibri"/>
            </a:endParaRPr>
          </a:p>
        </p:txBody>
      </p:sp>
      <p:sp>
        <p:nvSpPr>
          <p:cNvPr id="223" name=""/>
          <p:cNvSpPr txBox="1"/>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 seizure is temporary abnormal electrical activity in the brain caused by injury, disease, fever, infection, metabolic disturbances or conditions that decrease oxygen leve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Seizures</a:t>
            </a:r>
            <a:endParaRPr b="0" lang="en-US" sz="3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ized tonic-clonic (grand m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ence (petit m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bril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2824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a:t>
            </a:r>
            <a:endParaRPr b="0" lang="en-US" sz="3800" spc="-1" strike="noStrike">
              <a:solidFill>
                <a:srgbClr val="000000"/>
              </a:solidFill>
              <a:latin typeface="Calibri"/>
            </a:endParaRPr>
          </a:p>
        </p:txBody>
      </p:sp>
      <p:sp>
        <p:nvSpPr>
          <p:cNvPr id="227" name=""/>
          <p:cNvSpPr txBox="1"/>
          <p:nvPr/>
        </p:nvSpPr>
        <p:spPr>
          <a:xfrm>
            <a:off x="60948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the scene of a motor-vehicle crash and begin to provide care to two patients who are both alert and conscious with minor lacerations. They are sitting on the curb. Suddenly one of them falls to the side and begins to have a tonic-clonic seizure.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17:02:59Z</dcterms:created>
  <dc:creator>Mom</dc:creator>
  <dc:description/>
  <dc:language>en-US</dc:language>
  <cp:lastModifiedBy>belrod</cp:lastModifiedBy>
  <dcterms:modified xsi:type="dcterms:W3CDTF">2011-04-29T14:55:27Z</dcterms:modified>
  <cp:revision>103</cp:revision>
  <dc:subject/>
  <dc:title>You Are the Emergency Medical Responder</dc:title>
</cp:coreProperties>
</file>