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7BC279-5F41-462C-9E75-DB6B7FD4ECB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08F82FF-59FD-4748-B918-AE03313AB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29F02A3-D4EC-41A6-8279-03B7F2D0A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0E84C5B-3797-4C1F-B509-1822F7D839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B77F966-B73F-4EB5-AE22-35C673598C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A2777C7-8E58-431E-A2FB-89F1CD9A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0138983-8EE9-438A-A087-DE054AD7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ED693DD4-F5A3-45D5-9853-5B62B9EC0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8C482E26-8AF8-45C2-8BC7-428391A8C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E158D91-D72C-4779-90A8-33C8E9732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7D58F17-7570-4A11-A616-B34F8ADDC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BD5DAB-77B2-42F0-A577-1C6CFDCA6D2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5D5E-BD08-4581-92DE-7A4708B31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09" name=""/>
          <p:cNvSpPr txBox="1"/>
          <p:nvPr/>
        </p:nvSpPr>
        <p:spPr>
          <a:xfrm>
            <a:off x="457200" y="21337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 school bus carrying 30 students is involved in a collision and is severely damaged near the front of the bus. The students are scared and some are injured. People are starting to crowd around the area, and the local fire department already is on scene. You arrive as an EMR on scen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5: Incident Command and Multiple-Casualty Inci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Other Methods for Triage</a:t>
            </a:r>
            <a:br>
              <a:rPr sz="3800"/>
            </a:br>
            <a:endParaRPr b="0" lang="en-US" sz="3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LT Mass Casualty Tri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ity 1: Still/obvious life thre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ity 2: Waving/purposeful move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ority 3: Walking</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umpSTAR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with childr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t for use with infants younger than 12 months</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33" name=""/>
          <p:cNvSpPr txBox="1"/>
          <p:nvPr/>
        </p:nvSpPr>
        <p:spPr>
          <a:xfrm>
            <a:off x="457200" y="1143000"/>
            <a:ext cx="8229600" cy="49831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You are assisting with triage at the scene of a multi-vehicle collision involving several automobiles and a tractor trailer. One of the patients, a 35-year-old woman, is alert and responsive with a small cut on her forehead and forearm and is complaining of a headache. An 8-year-old child has a fractured leg with the bone protruding through the skin with significant bleeding. A third victim, a 65-year-old male is not breathing, even after attempting to open and clear his airway.</a:t>
            </a:r>
            <a:endParaRPr b="0" lang="en-US" sz="2800" spc="-1" strike="noStrike">
              <a:solidFill>
                <a:srgbClr val="000000"/>
              </a:solidFill>
              <a:latin typeface="Calibri"/>
            </a:endParaRPr>
          </a:p>
          <a:p>
            <a:pPr>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ress at a </a:t>
            </a:r>
            <a:br>
              <a:rPr sz="3800"/>
            </a:br>
            <a:r>
              <a:rPr b="0" lang="en-US" sz="3800" spc="-1" strike="noStrike">
                <a:solidFill>
                  <a:srgbClr val="000000"/>
                </a:solidFill>
                <a:latin typeface="Calibri"/>
              </a:rPr>
              <a:t>Multiple-Casualty Incident</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i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and elderly with increased risk for severe stress reacti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Rs and the need for debrief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 number of students from the bus are yelling at you to help them, and one of the firefighters asks you to come over and check the coach, whose pain in his abdomen and chest seems to be getting wors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odels for </a:t>
            </a:r>
            <a:br>
              <a:rPr sz="3800"/>
            </a:br>
            <a:r>
              <a:rPr b="0" lang="en-US" sz="3800" spc="-1" strike="noStrike">
                <a:solidFill>
                  <a:srgbClr val="000000"/>
                </a:solidFill>
                <a:latin typeface="Calibri"/>
              </a:rPr>
              <a:t>Incident Management Systems</a:t>
            </a:r>
            <a:endParaRPr b="0" lang="en-US" sz="38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Incident Management System (NIM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ional Response Framework (NRF)</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Incident Command System</a:t>
            </a:r>
            <a:endParaRPr b="0" lang="en-US" sz="3800" spc="-1" strike="noStrike">
              <a:solidFill>
                <a:srgbClr val="000000"/>
              </a:solidFill>
              <a:latin typeface="Calibri"/>
            </a:endParaRPr>
          </a:p>
        </p:txBody>
      </p:sp>
      <p:sp>
        <p:nvSpPr>
          <p:cNvPr id="214" name=""/>
          <p:cNvSpPr txBox="1"/>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ment system originally developed to help manage fighting forest fir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hazards management system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ident commander</a:t>
            </a:r>
            <a:r>
              <a:rPr b="0" i="1"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stablishes incident objec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ages resources.</a:t>
            </a:r>
            <a:endParaRPr b="0" lang="en-US" sz="2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vises use of resources</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mmon Roles in the ICS</a:t>
            </a:r>
            <a:endParaRPr b="0" lang="en-US" sz="38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ge offic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atment offic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ation offic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ing office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officer</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17" name="Picture 5" descr="Picture"/>
          <p:cNvPicPr/>
          <p:nvPr/>
        </p:nvPicPr>
        <p:blipFill>
          <a:blip r:embed="rId1"/>
          <a:stretch/>
        </p:blipFill>
        <p:spPr>
          <a:xfrm>
            <a:off x="5181480" y="1676520"/>
            <a:ext cx="3124440" cy="4165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Multiple-Casualty Incidents</a:t>
            </a:r>
            <a:endParaRPr b="0" lang="en-US" sz="3800" spc="-1" strike="noStrike">
              <a:solidFill>
                <a:srgbClr val="000000"/>
              </a:solidFill>
              <a:latin typeface="Calibri"/>
            </a:endParaRPr>
          </a:p>
        </p:txBody>
      </p:sp>
      <p:sp>
        <p:nvSpPr>
          <p:cNvPr id="21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or-vehicle cras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nsportation accid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o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los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collaps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0"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 derailment</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irliner crash</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ZMAT incident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rthquak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rnado</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rrican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304560"/>
            <a:ext cx="8229600" cy="6094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iage</a:t>
            </a:r>
            <a:br>
              <a:rPr sz="3800"/>
            </a:br>
            <a:endParaRPr b="0" lang="en-US" sz="38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cess for identifying which patients require urgent care in a multiple-casualty incident.</a:t>
            </a:r>
            <a:endParaRPr b="0" lang="en-US" sz="2800" spc="-1" strike="noStrike">
              <a:solidFill>
                <a:srgbClr val="000000"/>
              </a:solidFill>
              <a:latin typeface="Calibri"/>
            </a:endParaRPr>
          </a:p>
          <a:p>
            <a:pPr marL="343080" indent="-50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ypes of Triage</a:t>
            </a:r>
            <a:br>
              <a:rPr sz="3800"/>
            </a:br>
            <a:endParaRPr b="0" lang="en-US" sz="3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m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on scene to rapidly categorize the condition of the patients, including the number and location of the patients and what transportation is need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condar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ten performed after patients are moved to the treatment area or before entering the treatment area </a:t>
            </a:r>
            <a:endParaRPr b="0" lang="en-US" sz="28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START System</a:t>
            </a:r>
            <a:endParaRPr b="0" lang="en-US" sz="38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essment of—</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thing</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rculation</a:t>
            </a:r>
            <a:endParaRPr b="0" lang="en-US" sz="2800" spc="-1" strike="noStrike">
              <a:solidFill>
                <a:srgbClr val="000000"/>
              </a:solidFill>
              <a:latin typeface="Calibri"/>
            </a:endParaRPr>
          </a:p>
          <a:p>
            <a:pPr lvl="1" marL="463680" indent="-349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vel of consciousness (LOC)</a:t>
            </a:r>
            <a:endParaRPr b="0" lang="en-US" sz="2800" spc="-1" strike="noStrike">
              <a:solidFill>
                <a:srgbClr val="000000"/>
              </a:solidFill>
              <a:latin typeface="Calibri"/>
            </a:endParaRPr>
          </a:p>
          <a:p>
            <a:pPr>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Triage Categories</a:t>
            </a:r>
            <a:endParaRPr b="0" lang="en-US" sz="3800" spc="-1" strike="noStrike">
              <a:solidFill>
                <a:srgbClr val="000000"/>
              </a:solidFill>
              <a:latin typeface="Calibri"/>
            </a:endParaRPr>
          </a:p>
        </p:txBody>
      </p:sp>
      <p:sp>
        <p:nvSpPr>
          <p:cNvPr id="228" name=""/>
          <p:cNvSpPr txBox="1"/>
          <p:nvPr/>
        </p:nvSpPr>
        <p:spPr>
          <a:xfrm>
            <a:off x="456840" y="1600200"/>
            <a:ext cx="5181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bulatory (walking wounded): Gree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ediate care: Re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layed care: Yellow</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eased/non-salvageable/expectant: Black</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ld: White</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229" name="Picture 5" descr="Picture"/>
          <p:cNvPicPr/>
          <p:nvPr/>
        </p:nvPicPr>
        <p:blipFill>
          <a:blip r:embed="rId1"/>
          <a:stretch/>
        </p:blipFill>
        <p:spPr>
          <a:xfrm>
            <a:off x="5715000" y="1371600"/>
            <a:ext cx="2992320" cy="449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6T15:41:43Z</dcterms:created>
  <dc:creator>Mom</dc:creator>
  <dc:description/>
  <dc:language>en-US</dc:language>
  <cp:lastModifiedBy>belrod</cp:lastModifiedBy>
  <dcterms:modified xsi:type="dcterms:W3CDTF">2011-04-29T15:35:23Z</dcterms:modified>
  <cp:revision>40</cp:revision>
  <dc:subject/>
  <dc:title>You Are the Emergency Medical Responder</dc:title>
</cp:coreProperties>
</file>