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5C5AF-F8DD-47ED-82DC-E6C0944608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94A5C-5822-415D-919F-E63A3FAC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FC330-A891-4F81-9552-EF604EAC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2816-0884-439E-B133-CDDFF2AA99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4F9E-771F-420E-973A-76C09F06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80B7-DB3B-4A82-BBCE-A8AD8C3B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DDB0B-3F9A-4689-A022-13C31FA46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B226E-F33F-4DA3-8C02-E5962CB0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A9C83-B0BA-4D8A-BF00-9AD4F5A2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AF4E-C8D4-451E-B795-176EBE3B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56497-654A-4327-89F5-833D15008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61990-52D0-49D0-9430-3FCF6183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cb0a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Times New Roman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4695-76E1-4EC4-AD1E-D8BAC0C0D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You Are the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Emergency Medical Respond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2860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s border security in the immediate vicinity and trained as an emergency medical responder (EMR), you respond to a call at one of the docks for an unconscious adult who collapsed for no apparent reason. You size-up the scene and notice that a middle-age male is lying prone on the floor and not moving. You discover that the patient’s chest does not rise when you attempt ventil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762120" y="22860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  <a:ea typeface="Osaka"/>
              </a:rPr>
              <a:t>Lesson 15: Airwa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uction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4495320"/>
            <a:ext cx="82296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sterile suction catheters of appropriate s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flow of  &gt;40 LPM at end of delivery tu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cuum of &gt;300 mmHg when clam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5" descr="Picture"/>
          <p:cNvPicPr/>
          <p:nvPr/>
        </p:nvPicPr>
        <p:blipFill>
          <a:blip r:embed="rId1"/>
          <a:srcRect l="0" t="8367" r="0" b="13584"/>
          <a:stretch/>
        </p:blipFill>
        <p:spPr>
          <a:xfrm>
            <a:off x="5486400" y="2286000"/>
            <a:ext cx="3079800" cy="16002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609480" y="990720"/>
            <a:ext cx="716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cess of removing foreign matter, such as mucus, fluid or blood, from a patient’s upper ai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types of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990720" y="2819520"/>
            <a:ext cx="480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5960" indent="336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echanical: electrically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ow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3366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nual: hand powered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336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o energy 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rway Adjunc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airway adjun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al (Oropharyngeal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ways (O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sal (Nasopharyngeal) airways (N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keep the tongue (the most common cause of airway obstruction) away from the back of the thro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As are only for unconscious, unresponsive patients without a gag reflex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Picture"/>
          <p:cNvPicPr/>
          <p:nvPr/>
        </p:nvPicPr>
        <p:blipFill>
          <a:blip r:embed="rId1"/>
          <a:srcRect l="7896" t="3957" r="10524" b="5119"/>
          <a:stretch/>
        </p:blipFill>
        <p:spPr>
          <a:xfrm>
            <a:off x="6095880" y="1219320"/>
            <a:ext cx="25909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rway Obstructi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tomical obstruction from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ong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ollen tissues of the mouth, tongue or thr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cal obstruction from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ign objects, such as food or to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ids, such as vo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oreign Body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irway Obstruction 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al sign: a conscious person who is clutching the thro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ld or partial FBA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ility to move some air to and from the lu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cibly coughing, which is encourag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FBA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bility to cough, speak, cry or breat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ediate action is necess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Measures to Relieve FBA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cious pat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ed forcible coug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 bl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dominal thrusts (adults and childr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st thrusts (for infants, pregnant women and patients too large to reach aroun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conscious pati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st compre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ger sweep if object is visible in the mou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cenario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480" y="144792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While attending a picnic, you notice that a 4-year-old boy begins coughing very forcibly while eating a hot dog. His mother appears frantic and begins shouting for help. As a trained EMR, you respond to the mother’s call for hel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You Are the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Emergency Medical Responder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175212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ou reposition the patient’s airway and attempt          2 ventilations, but the chest still does not ris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533520" y="358128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fter a few minutes of care, the patient’s chest begins to rise and fall with the ventilations, but he is not breathing on hi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Nasal Airwa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cious, responsive pat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conscious pati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aindications for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pected head trau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pected skull fra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brication of airway with water-soluble lubricant is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rtion with bevel of airway toward sept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5T20:02:23Z</dcterms:created>
  <dc:creator>Mom</dc:creator>
  <dc:description/>
  <dc:language>en-US</dc:language>
  <cp:lastModifiedBy>belrod</cp:lastModifiedBy>
  <dcterms:modified xsi:type="dcterms:W3CDTF">2011-04-29T14:13:50Z</dcterms:modified>
  <cp:revision>71</cp:revision>
  <dc:subject/>
  <dc:title>You Are the Emergency Medical Responder</dc:title>
</cp:coreProperties>
</file>