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917A6B-C21F-4ED1-B602-EA27B914A2B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418906-8DDA-4389-9088-1011B2F48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5C04D5E-C588-4492-ACE8-CE3414593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5109424-4621-43E2-9166-1991E8522DC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61F06EB-C1FD-41F0-A9A3-1844386E9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651426A-CB53-41D1-A2AC-F8734A849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7B7B653-513C-47F5-A024-3F19CF8A9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AF21C99-5C85-4D6C-9896-7C676C09D2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7E82CFD-DE38-482B-BFB7-0FE5DEA92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4D715D-F399-4178-AB57-1826B537D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69BF1E6-AD1C-4C08-BF80-ED3695F17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C034BA-814D-400E-84C8-7F615A89C29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53D00-D891-4961-AFDE-DFBEA67B0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533520" y="1981080"/>
            <a:ext cx="8229600" cy="452592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r police unit responds to a scene where an elderly gentleman appears lost and disoriented. He does not know where he is, how he got there or how to get home. When you ask him what his name is, the gentleman stares at you and says, “What did you say?” Initially he cannot remember, but after repeating the question several times the patient begins to respond and remember small bits of information.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40: Special Needs Pat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pecial Needs Situations</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tal i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llectual disabil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nic illnes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pice ca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ual or hearing </a:t>
            </a:r>
            <a:r>
              <a:rPr b="0" lang="en-US" sz="2800" spc="-1" strike="noStrike">
                <a:solidFill>
                  <a:srgbClr val="000000"/>
                </a:solidFill>
                <a:latin typeface="Calibri"/>
              </a:rPr>
              <a:t>proble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guage barri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ly challenged person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Mental Illness</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od disord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izophreni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xiety disord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ting disord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H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is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zheimer’s disea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tellectual Disabilities</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below-average scores on tests of mental ability or intellige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ability to function in daily lif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Down syndro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hronic Diseases and Disabilities</a:t>
            </a:r>
            <a:endParaRPr b="0" lang="en-US" sz="3800" spc="-1" strike="noStrike">
              <a:solidFill>
                <a:srgbClr val="000000"/>
              </a:solidFill>
              <a:latin typeface="Calibri"/>
            </a:endParaRPr>
          </a:p>
        </p:txBody>
      </p:sp>
      <p:sp>
        <p:nvSpPr>
          <p:cNvPr id="21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rt disea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bet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hrit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c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ebral palsy</a:t>
            </a:r>
            <a:endParaRPr b="0" lang="en-US" sz="2800" spc="-1" strike="noStrike">
              <a:solidFill>
                <a:srgbClr val="000000"/>
              </a:solidFill>
              <a:latin typeface="Calibri"/>
            </a:endParaRPr>
          </a:p>
        </p:txBody>
      </p:sp>
      <p:sp>
        <p:nvSpPr>
          <p:cNvPr id="219"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stic fibros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sclerosis (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cular dystroph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ism</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spice Care</a:t>
            </a:r>
            <a:endParaRPr b="0" lang="en-US" sz="3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provided to a terminally ill patient in the final 6 months of lif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cus is on keeping the person comfortable and pain-fre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provides physical, emotional, social and spiritual comfort to the dying pers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s you continue your care, you suspect that the man has a hearing problem. He still does not remember where he lives or where he is. He becomes agitated at the help being provided, saying he does not need any help.</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4T17:22:33Z</dcterms:created>
  <dc:creator>Mom</dc:creator>
  <dc:description/>
  <dc:language>en-US</dc:language>
  <cp:lastModifiedBy>belrod</cp:lastModifiedBy>
  <dcterms:modified xsi:type="dcterms:W3CDTF">2011-04-29T15:18:56Z</dcterms:modified>
  <cp:revision>22</cp:revision>
  <dc:subject/>
  <dc:title>You Are the Emergency Medical Responder</dc:title>
</cp:coreProperties>
</file>