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37F471-8FF6-4658-AC71-AC5B6A5C561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7458C2B-9A15-4D7A-A330-645DEE194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892A35B8-85A2-4758-B16E-22FCD54F0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2325D28-3078-443C-9B76-D058DD2F167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0AA480-A0D7-4B70-9DD3-3A493E756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5F4686D-A005-4C3C-9F17-E3541D5F6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6CE09C3-464A-45DE-B5C5-EF499B3F6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7D36A27-134C-42F7-A94C-5FA0FF120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6CBC784-76F7-4E34-8725-67EFF9325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F1B052-0F00-419F-897D-643626A8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C127F3-7759-4D23-B0A5-18383B64D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B130950-8C21-4F2C-A326-06DC9FDEA61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BBA5-C8FA-4A7B-9FEB-57BA17AF70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61760"/>
            <a:ext cx="8229600" cy="655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304560" y="1980720"/>
            <a:ext cx="8839080" cy="44197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a home of a couple in their 40s after the wife called 9-1-1 because her husband had just collapsed in the bathroom. When you arrive, the woman tells you that her husband was “complaining of indigestion and pressure in his chest and then all of sudden, he passed out.” You accompany the woman to the upstairs bathroom and find the husband face-down on the floor with a small amount of what looks like vomit on the floor near his mouth. He is unconsciou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3: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2" name=""/>
          <p:cNvSpPr txBox="1"/>
          <p:nvPr/>
        </p:nvSpPr>
        <p:spPr>
          <a:xfrm>
            <a:off x="457200" y="1600200"/>
            <a:ext cx="8686800" cy="49528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receive a call from dispatch to go to the local high school to evaluate a student athlete who has collapsed during soccer practice. When you arrive on the scene, you find the patient lying on the side of the field with her legs slightly elevated and several fellow players kneeling around her. She is talking to the players and sipping on some water. She tells you that she got overheated, started to feel dizzy and then just fainted. “I should have had something to eat after school today before practice but I was running l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 bicycle crash. Several bystanders report that a young woman was riding her bicycle down a hill and lost control of the bicycle when she hit the curb. She was thrown from the bicycle sideways, landing on her left shoulder and side. The bicycle flipped, causing the handlebars to strike the side of her right chest and abdomen. A crowd of people are beginning to gather around the sce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ze-up the sce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 a primary assess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tain a history (SAMPL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t a secondary assess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constant communication among EMS syst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all information is properly and thoroughly document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14:00:01Z</dcterms:created>
  <dc:creator>Mom</dc:creator>
  <dc:description/>
  <dc:language>en-US</dc:language>
  <cp:lastModifiedBy>belrod</cp:lastModifiedBy>
  <dcterms:modified xsi:type="dcterms:W3CDTF">2011-04-29T14:11:42Z</dcterms:modified>
  <cp:revision>25</cp:revision>
  <dc:subject/>
  <dc:title>Putting It All Together</dc:title>
</cp:coreProperties>
</file>