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E65775-7734-4B93-8177-FB67416E271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C280555-69C0-4E62-9427-86FFF6F8B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108B0845-6A99-4410-B95E-F4D7C4F28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910ADC9-DD51-4FEF-8443-2535B98F33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6FDABD4-4FB5-4FBE-AD10-2153DEFBF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C28D5E3-1BE4-4904-8C03-C8A8B7A5D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F955CF2-FF83-40DF-B7C6-AE8C44676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5176237-5551-4254-A41B-181889105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3626234-433D-47A6-94D4-0BDCF9A92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F238D51-3A70-4909-89F1-CB947A9F5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DC10A5C-218C-49EC-9FB5-A26A49C69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368CA44-4CE3-4BD7-B243-5FEA83AF430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BBF95-0F22-4056-813D-458EF9D281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9" name=""/>
          <p:cNvSpPr txBox="1"/>
          <p:nvPr/>
        </p:nvSpPr>
        <p:spPr>
          <a:xfrm>
            <a:off x="152280" y="1981080"/>
            <a:ext cx="8839440" cy="4724640"/>
          </a:xfrm>
          <a:prstGeom prst="rect">
            <a:avLst/>
          </a:prstGeom>
          <a:noFill/>
          <a:ln w="0">
            <a:noFill/>
          </a:ln>
        </p:spPr>
        <p:txBody>
          <a:bodyPr lIns="90000" rIns="90000" tIns="46800" bIns="46800"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You are called to the scene of an industrial plant after a report of an explosion. As you arrive, you see numerous people fleeing the plant, walking quickly and running to the parking lot across the street. Some are being helped by others. Smoke is billowing from the building and flames can be seen at the back of the building. A pungent odor fills the air. You notice two people leaving the building, coughing and struggling to breathe when suddenly one of them collapses just outside the exit. The other person trips and falls to the ground hitting his head. You hear another explosion. Glass and debris are flying everywhere and the flames begin to spread.</a:t>
            </a:r>
            <a:endParaRPr b="0" lang="en-US" sz="26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7: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12" name=""/>
          <p:cNvSpPr txBox="1"/>
          <p:nvPr/>
        </p:nvSpPr>
        <p:spPr>
          <a:xfrm>
            <a:off x="533520" y="1828800"/>
            <a:ext cx="8229600" cy="452592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You arrive at the scene of a convenience store robbery. The clerk in the store has been shot in the abdomen and is bleeding profusely. He responds to his name but is extremely lethargic and sleepy. The perpetrator has fled. Several people who were in the store at the time of the robbery are sitting outside talking to the poli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152280" y="1600200"/>
            <a:ext cx="8763120" cy="5029200"/>
          </a:xfrm>
          <a:prstGeom prst="rect">
            <a:avLst/>
          </a:prstGeom>
          <a:noFill/>
          <a:ln w="0">
            <a:noFill/>
          </a:ln>
        </p:spPr>
        <p:txBody>
          <a:bodyPr lIns="90000" rIns="90000" tIns="46800" bIns="46800"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You are called to the scene of a motor-vehicle crash at a four-way intersection that involves a pickup truck and a car. The car has rolled over onto its side. The pickup truck has crashed head-on into a light pole. Two people have stopped to help. One person is talking to the driver of the car who is pinned inside the car and is unable to move his leg. The other person is directing traffic slowly around the scene. As you approach the scene, you see the driver of the pickup truck coming out of the vehicle. You also notice an empty bottle falling to the ground as he leaves the truck. The driver has scratches on his face and arms. He starts yelling at you, screaming, “Get away, I don’t need your help. I’m fine.” The man’s speech is slurred and his breath smells of alcohol.</a:t>
            </a:r>
            <a:endParaRPr b="0" lang="en-US" sz="2600" spc="-1" strike="noStrike">
              <a:solidFill>
                <a:srgbClr val="000000"/>
              </a:solidFill>
              <a:latin typeface="Calibri"/>
            </a:endParaRPr>
          </a:p>
        </p:txBody>
      </p:sp>
      <p:sp>
        <p:nvSpPr>
          <p:cNvPr id="21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les and responsibilities of the EM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of disease transmis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of well-being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legal and ethical pract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while moving and lifting pati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9T21:37:38Z</dcterms:created>
  <dc:creator>Mom</dc:creator>
  <dc:description/>
  <dc:language>en-US</dc:language>
  <cp:lastModifiedBy>belrod</cp:lastModifiedBy>
  <dcterms:modified xsi:type="dcterms:W3CDTF">2011-04-29T14:01:43Z</dcterms:modified>
  <cp:revision>26</cp:revision>
  <dc:subject/>
  <dc:title>Putting It All Together</dc:title>
</cp:coreProperties>
</file>