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FC801A5-691E-4B9C-9C2A-D40122289A8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817410B-5D6F-4A2F-A116-811A6B69A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A3BE3B3-C39D-4DB9-ADE7-7A7432BE6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8290165-3F90-4772-B8B2-AF72FA3B2F5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3866A26-87C7-42CB-8E33-C915110D0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A20BADA-1AE8-4A1B-A90C-2946BACFE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5E95DBF-25A6-4F73-BBC6-C06D092050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ED92E45-8D44-4CAF-B88F-CA8D0665D3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8B2E7F6-475A-484D-BE20-A2D4795B6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7BEE4E-8AB3-4DA4-8A2D-A518BA348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497BBCA-6BD2-4E01-A773-085437DB7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DCE4CA-B2DB-4215-B67C-05D75A1DAE1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41A1-CDB6-4744-8CAC-44C92916D1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25146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the lifeguard at a local pool and are working as the emergency medical responder (EMR) at that facility for the day. A young woman runs over to you and tells you that she thinks her older sister is in labor.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7: Childbir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PGAR Score</a:t>
            </a:r>
            <a:endParaRPr b="0" lang="en-US" sz="38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 Appear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 – Pul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 – Grima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 Activ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 – Respir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hen to Begin </a:t>
            </a:r>
            <a:br>
              <a:rPr sz="3800"/>
            </a:br>
            <a:r>
              <a:rPr b="0" lang="en-US" sz="3800" spc="-1" strike="noStrike">
                <a:solidFill>
                  <a:srgbClr val="000000"/>
                </a:solidFill>
                <a:latin typeface="Calibri"/>
              </a:rPr>
              <a:t>Immediate Newborn Resuscitation</a:t>
            </a:r>
            <a:endParaRPr b="0" lang="en-US" sz="3800" spc="-1" strike="noStrike">
              <a:solidFill>
                <a:srgbClr val="000000"/>
              </a:solidFill>
              <a:latin typeface="Calibri"/>
            </a:endParaRPr>
          </a:p>
        </p:txBody>
      </p:sp>
      <p:sp>
        <p:nvSpPr>
          <p:cNvPr id="230" name=""/>
          <p:cNvSpPr txBox="1"/>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ions fall to less than 30 per minute or the newborn is gasping or not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se is less than 100 bp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anosis (bluish skin) persists around the chest and abdomen despite having administered emergency oxyge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called to an employee lounge at a local manufacturing plant because a pregnant woman is in labor and the newborn is crowning. Shortly after your arrival, the woman gives birth to a baby girl who appears to be smaller than normal. The baby does not cry spontaneously after birth.</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livery of the Placenta</a:t>
            </a:r>
            <a:endParaRPr b="0" lang="en-US" sz="38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 remains in uterus attached to the baby by the umbilical cord after delive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erine contractions usually expel the placenta within 10 minutes of delivery, usually within 30 minu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vaginal bleeding occurs with placenta expuls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ssible Complications During Pregnancy</a:t>
            </a:r>
            <a:endParaRPr b="0" lang="en-US" sz="3800" spc="-1" strike="noStrike">
              <a:solidFill>
                <a:srgbClr val="000000"/>
              </a:solidFill>
              <a:latin typeface="Calibri"/>
            </a:endParaRPr>
          </a:p>
        </p:txBody>
      </p:sp>
      <p:sp>
        <p:nvSpPr>
          <p:cNvPr id="23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ontaneous abortion (miscarriag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topic (tubal) pregnanc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eclampsia (toxemia) and eclampsia (pregnancy-induced hyperten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ginal blee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uma</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ssible Complications During Delivery</a:t>
            </a:r>
            <a:endParaRPr b="0" lang="en-US" sz="38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orrhage (postpartum hemorrhag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apsed umbilical cor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ch bir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b presen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birth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mature bir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onium aspir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40" name=""/>
          <p:cNvSpPr txBox="1"/>
          <p:nvPr/>
        </p:nvSpPr>
        <p:spPr>
          <a:xfrm>
            <a:off x="457200" y="167652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ile approaching the young woman who is in labor, the sister tells you that the patient is 26 years old. The pregnant woman is yelling, “The baby is coming!” She tells you that this will be her fourth child.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ore Complications During Pregnancy and Delivery</a:t>
            </a:r>
            <a:endParaRPr b="0" lang="en-US" sz="3800" spc="-1" strike="noStrike">
              <a:solidFill>
                <a:srgbClr val="000000"/>
              </a:solidFill>
              <a:latin typeface="Calibri"/>
            </a:endParaRPr>
          </a:p>
        </p:txBody>
      </p:sp>
      <p:sp>
        <p:nvSpPr>
          <p:cNvPr id="242" name=""/>
          <p:cNvSpPr txBox="1"/>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 previa (abnormal implantation of the placent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uptio placentae (premature separation of placenta from the uteru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d uteru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 dystoci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ormal Pregnancy</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month period (38 week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date calculated as 40 weeks from the woman’s last menstrual perio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trimesters, each about 3 months lo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egnancy Trimesters</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trimester: implantation and rapid embryo develop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trimester: feelings of being re-energized; beginning to “show” with woman’s weight g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trimester: time of greatest fetal weight gain; expansion of woman’s abdom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ages of Labor</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st stage: Dil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stage: Expul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stage: Placental delive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stage: Stabi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Labor Assessment</a:t>
            </a:r>
            <a:endParaRPr b="0" lang="en-US" sz="3800" spc="-1" strike="noStrike">
              <a:solidFill>
                <a:srgbClr val="000000"/>
              </a:solidFill>
              <a:latin typeface="Calibri"/>
            </a:endParaRPr>
          </a:p>
        </p:txBody>
      </p:sp>
      <p:sp>
        <p:nvSpPr>
          <p:cNvPr id="218" name=""/>
          <p:cNvSpPr txBox="1"/>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versus false labor contrac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e d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cted compl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ing of contractions (length, duration, frequ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5 minutes apart, transport to medical facil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2 minutes apart, prepare for imminent deliver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wning</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home of a pregnant woman who has called 9-1-1 because her “water broke” and she has been having contractions off and on for several hours. This is the woman’s first pregnancy and she is at home alone.</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Imminent Birth</a:t>
            </a:r>
            <a:endParaRPr b="0" lang="en-US" sz="3800" spc="-1" strike="noStrike">
              <a:solidFill>
                <a:srgbClr val="000000"/>
              </a:solidFill>
              <a:latin typeface="Calibri"/>
            </a:endParaRPr>
          </a:p>
        </p:txBody>
      </p:sp>
      <p:sp>
        <p:nvSpPr>
          <p:cNvPr id="222" name=""/>
          <p:cNvSpPr txBox="1"/>
          <p:nvPr/>
        </p:nvSpPr>
        <p:spPr>
          <a:xfrm>
            <a:off x="457200" y="156996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e contractions 2 minutes apart or less, lasting 60 to 90 seco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tight and hard abdom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of feeling infant’s head moving down birth canal; feeling of the urge to defec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w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her with a strong urge to pu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1920" y="274320"/>
            <a:ext cx="8991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eps for Imminent Birth with Crowning</a:t>
            </a:r>
            <a:endParaRPr b="0" lang="en-US" sz="3800" spc="-1" strike="noStrike">
              <a:solidFill>
                <a:srgbClr val="000000"/>
              </a:solidFill>
              <a:latin typeface="Calibri"/>
            </a:endParaRPr>
          </a:p>
        </p:txBody>
      </p:sp>
      <p:sp>
        <p:nvSpPr>
          <p:cNvPr id="224" name=""/>
          <p:cNvSpPr txBox="1"/>
          <p:nvPr/>
        </p:nvSpPr>
        <p:spPr>
          <a:xfrm>
            <a:off x="456840" y="1447560"/>
            <a:ext cx="838188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light pressure on top of the baby’s he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woman to pant and stop push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ncture the amniotic sac if necessa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for umbilical cord looping; gently slip it over the head or should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 one shoulder out at a time; do not pu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lean towel to receive or hold the bab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baby on its side between mother and you</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e time of birt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ewborn Care</a:t>
            </a:r>
            <a:endParaRPr b="0" lang="en-US" sz="38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mp/tie umbilical cor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 APGAR sco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 head during hand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r mouth and nasal passages (suction mouth before no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newborn infant warm and dry (to prevent heat los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1T13:37:17Z</dcterms:created>
  <dc:creator>Mom</dc:creator>
  <dc:description/>
  <dc:language>en-US</dc:language>
  <cp:lastModifiedBy>belrod</cp:lastModifiedBy>
  <dcterms:modified xsi:type="dcterms:W3CDTF">2011-04-29T15:17:22Z</dcterms:modified>
  <cp:revision>42</cp:revision>
  <dc:subject/>
  <dc:title>You Are the Emergency Medical Responder</dc:title>
</cp:coreProperties>
</file>